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E099-EAA1-43E7-9D27-300B4BEF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46B-F033-4E74-A534-C67D8CF4CA9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466-8C6C-45C2-AAF9-83651DE0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DA2-375B-4D90-9792-09CED65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66E-1F1C-42D4-B335-BCE1965E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9A0-F199-4C54-98A9-811758EA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A52-3F86-4A7A-B971-2894F8F8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08F7-DFC3-4D77-99A0-BA57DA17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3D95-F7E0-4F2E-BCCB-17758F2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94C9-70C9-4672-9CD9-1C9B437F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948D-96F2-4C23-B39F-77FBD6D2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43ED-4585-48C0-9BBD-29EA200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89AB-C717-44E8-8F0A-1900627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ADA-1839-4879-98F6-D6FDA40B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A952-4163-4A73-9DDE-1AC42B1C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3C2-ECA0-4B19-AD2E-3FFC832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5850-BD67-4969-A51B-C5A3C94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4FC4-4247-4240-9183-07217BD1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37D9-2B62-49AB-A663-B793B621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8A6D-3FA4-4CA3-9197-E04EB6C3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AE30-1802-40E7-B6BE-058A8E69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CCF6-EC80-42AA-A292-1929FE0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0A76-FB60-4774-8357-723FAC6D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6F75-2F6F-4C0D-9B56-BEB218E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046-8A64-4E47-A361-7FA0784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8C71-CB42-41BF-A0C0-B1A7700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E0AD-2D7A-4C3C-9B40-B0FC78E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9AF2-0E2A-4F1B-85FB-8789C375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0383-AC91-460D-926C-DBE2173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E306-70E5-4E20-89AC-66A78E3A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4C3A-EF4B-42A6-A882-48071F9F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D4FF-11DA-4DDC-867D-374274D8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D270-B422-4CE5-B727-3731EA4C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EA5F-728B-474C-89AF-85335BB9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73DF-0793-490D-8CC7-24F1D84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CB7-BDEA-41A7-BFA1-25E7F74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9FAB-7931-4E45-BEB4-88D673F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71D3-E283-4D70-974A-BD7D1367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0B6B-2179-4936-A4BD-C517357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3CE6-09FF-4E17-B9A5-9A93550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5A4A3-EF86-49D6-9A2F-3880CF1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E62F-D2D0-4FA7-8CEB-C3B623F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B2EB-AB24-43D8-9FA4-48F83267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6853-864A-4C0E-9CB2-59EB7F25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2472-151C-4649-B0F9-4AFC5834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77C5-7DBF-4B2B-8A63-B0D714E9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0B8-D584-48C8-890B-684F7D9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3755-628B-423C-85F3-BF96E8A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E4A7-915F-4F48-8E55-3810EA6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C0D2A-E167-4F1B-99EC-B7302E60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5C94F-93FB-4238-83AF-4F062D2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8CC4-B838-4112-97C7-B859700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CFAB-BA26-47A8-B275-365B433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7790-5F56-4A86-9429-CE52922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42815-130D-4D49-B25C-04A5CB4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EBD3-B76B-494A-ACC1-EA2A7C4A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ACF7-ADC0-405A-8D0F-4031E5B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494-8C85-44F0-A914-1DDB19F7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FD17D-36AC-4250-89FE-F9525DA0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6A12D-43D4-46B1-8B69-C9C36518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25B0-7738-4DAF-9C6E-0729C0C7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7584-2BF6-4779-BBFF-3F137A3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1DA97-20A2-4BC2-B414-000A4D7E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9155-7948-48FA-9FE4-EFFCBDE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397AA-4514-42E7-943E-CD99C8BB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D5610-144F-4F1B-B61C-2B5758BF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053A-D16A-4CA8-93E7-19BDE687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7864-5E48-4E7E-8B66-7AED6FF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499-E9F3-4FA4-9B79-919933BB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08550-598B-4A78-8333-E043430A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7A168-C98C-4714-BB0A-53D6EAD8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1F2E-4F23-4E2F-9F92-0CD7E56A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E820-DDFC-4D7B-9DBF-F1631EBC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88B9-46D1-4CAA-B004-FD9BDF69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0F60-CC13-4E8D-80CE-01EF8C5D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8825-8E1E-41BD-9D42-D7CFDF5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32507-0040-48D3-A75C-5B406198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B25B-700B-43CC-AAA0-A7E06A97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FA1E-C9E2-4169-8FB2-73D4698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0D7-2085-4221-A714-4F2F2E4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0A1EF-CFB3-4527-B3BA-0714D8F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EE7B-78C7-4847-938F-6027E88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9F6AA-7F2C-4164-9825-A750767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091A-8CC4-4E5C-8247-F3DA62C2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F8C9C-8BB7-4054-90AD-5544C60F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5CC-8038-450D-BA95-9799AAF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F23-3109-4DE3-AAE1-62B5BD48F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9535-9BDD-46EB-AF26-40F31EA1A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550-A06D-4DB9-A7B7-37697C865D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9A7F-F449-4A8C-B44E-C210EE0A3A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F74F-37D9-4E65-B6A0-DEE3DAB65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0BD-3344-4773-9915-A1B827C3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5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5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6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601-EA4E-4BE9-8D44-D3AC1A743A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SCIENT ENGINEERING COLLEGE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PART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-Tech ¾   SEM I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D traffic signals which controls traffic as well as speed of the vehicles using sens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8" name="Picture 4" descr="LED traffic lights in Örnsköldsvik, Sweden."/>
          <p:cNvPicPr/>
          <p:nvPr/>
        </p:nvPicPr>
        <p:blipFill>
          <a:blip r:embed="rId1"/>
          <a:stretch/>
        </p:blipFill>
        <p:spPr>
          <a:xfrm>
            <a:off x="838080" y="27432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   </a:t>
            </a: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Vote Of Thanks</a:t>
            </a:r>
            <a:br>
              <a:rPr sz="3500"/>
            </a:br>
            <a:endParaRPr b="1" lang="en-US" sz="4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are very much thankful to our guide and the supporting staff members for helping us to complete our project that’s free of err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have come out with immense satisfaction that helped us to discover something special in us which would not have been possible without this projec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5"/>
          <p:cNvSpPr txBox="1"/>
          <p:nvPr/>
        </p:nvSpPr>
        <p:spPr>
          <a:xfrm>
            <a:off x="1295280" y="1981080"/>
            <a:ext cx="6324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ristina"/>
              </a:rPr>
              <a:t>Thank U :-)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ff"/>
                </a:solidFill>
                <a:latin typeface="Copperplate Gothic Bold"/>
              </a:rPr>
              <a:t>TRAFFIC  SIGNAL  MANAGEMEN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ffic Signal Management is the design of  a traffic signal which controls the traff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ject “Traffic Signal Management” facilitates  easy control of heavy traffic which uses three lights :Red, Yellow and Gre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lights used to indicate the signaling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flashing RED light indicates S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ELLOW indicates BE READY and last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REEN  indicates G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6" name="Picture 4" descr="A demonstration of a traffic light, showing Red, for stop Yellow, (stop ahead) for slow down  and Green for go."/>
          <p:cNvPicPr/>
          <p:nvPr/>
        </p:nvPicPr>
        <p:blipFill>
          <a:blip r:embed="rId1"/>
          <a:stretch/>
        </p:blipFill>
        <p:spPr>
          <a:xfrm>
            <a:off x="1676520" y="320040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s changes automatically at regular intervals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ask is done by using separate variables for each l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ly, RED light appears for 21 seconds ie, it appears from count equal to 25 to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when count becomes 3 RED automatically changes to YELLOW  and it glows for 4 seconds i.e, up to count becomes 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n count becomes 0,light changes automatically to GREEN and it glows for 25 seco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s process is continued for easy flow of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Pristina"/>
              </a:rPr>
              <a:t>Green signal</a:t>
            </a:r>
            <a:endParaRPr b="1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1" name="Picture 4" descr="green"/>
          <p:cNvPicPr/>
          <p:nvPr/>
        </p:nvPicPr>
        <p:blipFill>
          <a:blip r:embed="rId1"/>
          <a:stretch/>
        </p:blipFill>
        <p:spPr>
          <a:xfrm>
            <a:off x="1219320" y="1170000"/>
            <a:ext cx="723888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main crux of this project is to reduce the traffic jams at heavy traffic junc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ghts glowing at regular intervals of time facilitates easy flow and control of the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dvantage for people crossing roads through pedestrian crossing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can also improve this project by adding additional features lik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destrian crossing light with loudspeaker for blin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6" name="Picture 6" descr="Pedestrian crossing light with loudspeaker for the blind."/>
          <p:cNvPicPr/>
          <p:nvPr/>
        </p:nvPicPr>
        <p:blipFill>
          <a:blip r:embed="rId1"/>
          <a:stretch/>
        </p:blipFill>
        <p:spPr>
          <a:xfrm>
            <a:off x="4572000" y="457200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4:10:07Z</dcterms:created>
  <dc:creator>rakesh</dc:creator>
  <dc:description/>
  <dc:language>en-US</dc:language>
  <cp:lastModifiedBy>Brigade</cp:lastModifiedBy>
  <dcterms:modified xsi:type="dcterms:W3CDTF">2011-09-05T18:54:01Z</dcterms:modified>
  <cp:revision>33</cp:revision>
  <dc:subject/>
  <dc:title>MVSR ENGINEERING COLLEGE</dc:title>
</cp:coreProperties>
</file>