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12213-E50C-4A46-A405-17EAE9F35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B104B-5FA6-4877-A203-BCE11D485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957E-DD2A-4EF9-980B-A3A7474B4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0C0B-E2DE-4476-861F-1DC8425E1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FAFC-09C5-4F8A-AAA3-BBFAA66E9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7052-5211-461B-A6B7-CD7AE6D5A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D777-B0F9-4D96-A070-8684886DF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E5A5-39BB-4243-BCA7-9DA7B4836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F0AA-ECDD-409C-A831-955D94100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B559-13C8-46D1-B2CC-2769048FA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F3DB-6A72-493F-9F73-3BE743621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52CF-E57B-4865-BC76-D20B58A4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1987-B042-4504-8B27-AAAC9EE7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3EBA-A8CC-4BDA-A326-718B47D3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A3C70-FEFF-4B72-B452-3BABE4CB0B2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lobal Communication Med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520" y="761760"/>
            <a:ext cx="8076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   PRO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Calibri"/>
              </a:rPr>
              <a:t>DFD for Serv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" name="Group 22"/>
          <p:cNvGrpSpPr/>
          <p:nvPr/>
        </p:nvGrpSpPr>
        <p:grpSpPr>
          <a:xfrm>
            <a:off x="1279440" y="2724120"/>
            <a:ext cx="4846680" cy="3474720"/>
            <a:chOff x="1279440" y="2724120"/>
            <a:chExt cx="4846680" cy="3474720"/>
          </a:xfrm>
        </p:grpSpPr>
        <p:sp>
          <p:nvSpPr>
            <p:cNvPr id="77" name="Oval 23"/>
            <p:cNvSpPr/>
            <p:nvPr/>
          </p:nvSpPr>
          <p:spPr>
            <a:xfrm>
              <a:off x="4663080" y="4808160"/>
              <a:ext cx="1188720" cy="1280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Calibri"/>
                </a:rPr>
                <a:t>Delete persons from confere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AutoShape 24"/>
            <p:cNvSpPr/>
            <p:nvPr/>
          </p:nvSpPr>
          <p:spPr>
            <a:xfrm>
              <a:off x="1279440" y="3234600"/>
              <a:ext cx="914400" cy="36576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Calibri"/>
                </a:rPr>
                <a:t>Ser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25"/>
            <p:cNvSpPr/>
            <p:nvPr/>
          </p:nvSpPr>
          <p:spPr>
            <a:xfrm>
              <a:off x="2193840" y="34174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26"/>
            <p:cNvSpPr/>
            <p:nvPr/>
          </p:nvSpPr>
          <p:spPr>
            <a:xfrm>
              <a:off x="3108240" y="2998440"/>
              <a:ext cx="1097280" cy="1097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Calibri"/>
                </a:rPr>
                <a:t>Get Employee Detai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AutoShape 27"/>
            <p:cNvSpPr/>
            <p:nvPr/>
          </p:nvSpPr>
          <p:spPr>
            <a:xfrm>
              <a:off x="5120280" y="2724120"/>
              <a:ext cx="1005840" cy="457200"/>
            </a:xfrm>
            <a:prstGeom prst="flowChartInternalStorag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Calibri"/>
                </a:rPr>
                <a:t>Necda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28"/>
            <p:cNvSpPr/>
            <p:nvPr/>
          </p:nvSpPr>
          <p:spPr>
            <a:xfrm>
              <a:off x="1919520" y="482724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Calibri"/>
                </a:rPr>
                <a:t>Add persomns to confer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29"/>
            <p:cNvSpPr/>
            <p:nvPr/>
          </p:nvSpPr>
          <p:spPr>
            <a:xfrm flipH="1">
              <a:off x="2651040" y="4004280"/>
              <a:ext cx="640080" cy="82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30"/>
            <p:cNvSpPr/>
            <p:nvPr/>
          </p:nvSpPr>
          <p:spPr>
            <a:xfrm>
              <a:off x="4022640" y="3985200"/>
              <a:ext cx="822960" cy="100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31"/>
            <p:cNvSpPr/>
            <p:nvPr/>
          </p:nvSpPr>
          <p:spPr>
            <a:xfrm flipH="1">
              <a:off x="4205520" y="2907000"/>
              <a:ext cx="9144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Calibri"/>
              </a:rPr>
              <a:t>DFD for Cli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" name="Group 2"/>
          <p:cNvGrpSpPr/>
          <p:nvPr/>
        </p:nvGrpSpPr>
        <p:grpSpPr>
          <a:xfrm>
            <a:off x="1371600" y="2212920"/>
            <a:ext cx="5761080" cy="4645080"/>
            <a:chOff x="1371600" y="2212920"/>
            <a:chExt cx="5761080" cy="4645080"/>
          </a:xfrm>
        </p:grpSpPr>
        <p:sp>
          <p:nvSpPr>
            <p:cNvPr id="88" name="Rectangle 3"/>
            <p:cNvSpPr/>
            <p:nvPr/>
          </p:nvSpPr>
          <p:spPr>
            <a:xfrm>
              <a:off x="1371600" y="2487240"/>
              <a:ext cx="1097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alibri"/>
                </a:rPr>
                <a:t>Cli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4"/>
            <p:cNvSpPr/>
            <p:nvPr/>
          </p:nvSpPr>
          <p:spPr>
            <a:xfrm>
              <a:off x="2468880" y="276156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5"/>
            <p:cNvSpPr/>
            <p:nvPr/>
          </p:nvSpPr>
          <p:spPr>
            <a:xfrm>
              <a:off x="3383280" y="2212920"/>
              <a:ext cx="1097280" cy="1097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Calibri"/>
                </a:rPr>
                <a:t>Entry check proc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6"/>
            <p:cNvSpPr/>
            <p:nvPr/>
          </p:nvSpPr>
          <p:spPr>
            <a:xfrm>
              <a:off x="3931920" y="3310200"/>
              <a:ext cx="0" cy="73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7"/>
            <p:cNvSpPr/>
            <p:nvPr/>
          </p:nvSpPr>
          <p:spPr>
            <a:xfrm>
              <a:off x="3383280" y="4042080"/>
              <a:ext cx="1280160" cy="118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Calibri"/>
                </a:rPr>
                <a:t>Getting conference list from ser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8"/>
            <p:cNvSpPr/>
            <p:nvPr/>
          </p:nvSpPr>
          <p:spPr>
            <a:xfrm>
              <a:off x="4663440" y="4570920"/>
              <a:ext cx="73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9"/>
            <p:cNvSpPr/>
            <p:nvPr/>
          </p:nvSpPr>
          <p:spPr>
            <a:xfrm>
              <a:off x="5395320" y="4114080"/>
              <a:ext cx="1005840" cy="118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Calibri"/>
                </a:rPr>
                <a:t>Taking Part in confere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10"/>
            <p:cNvSpPr/>
            <p:nvPr/>
          </p:nvSpPr>
          <p:spPr>
            <a:xfrm>
              <a:off x="4572000" y="5943600"/>
              <a:ext cx="914400" cy="914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end mai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1"/>
            <p:cNvSpPr/>
            <p:nvPr/>
          </p:nvSpPr>
          <p:spPr>
            <a:xfrm>
              <a:off x="6218280" y="5943600"/>
              <a:ext cx="914400" cy="822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ceive mai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12"/>
            <p:cNvSpPr/>
            <p:nvPr/>
          </p:nvSpPr>
          <p:spPr>
            <a:xfrm flipH="1">
              <a:off x="5029560" y="5303160"/>
              <a:ext cx="640080" cy="64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13"/>
            <p:cNvSpPr/>
            <p:nvPr/>
          </p:nvSpPr>
          <p:spPr>
            <a:xfrm flipH="1" flipV="1">
              <a:off x="6035400" y="5303160"/>
              <a:ext cx="457200" cy="64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Calibri"/>
              </a:rPr>
              <a:t>Databas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295280" y="1828800"/>
          <a:ext cx="6629400" cy="2514600"/>
        </p:xfrm>
        <a:graphic>
          <a:graphicData uri="http://schemas.openxmlformats.org/drawingml/2006/table">
            <a:tbl>
              <a:tblPr/>
              <a:tblGrid>
                <a:gridCol w="1325520"/>
                <a:gridCol w="1325880"/>
                <a:gridCol w="1326960"/>
                <a:gridCol w="1325520"/>
                <a:gridCol w="1325520"/>
              </a:tblGrid>
              <a:tr h="819000">
                <a:tc>
                  <a:txBody>
                    <a:bodyPr lIns="85680" rIns="8568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f863f"/>
                          </a:solidFill>
                          <a:latin typeface="Calibri"/>
                        </a:rPr>
                        <a:t>Column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fdccf"/>
                    </a:solidFill>
                  </a:tcPr>
                </a:tc>
                <a:tc>
                  <a:txBody>
                    <a:bodyPr lIns="85680" rIns="8568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f863f"/>
                          </a:solidFill>
                          <a:latin typeface="Calibri"/>
                        </a:rPr>
                        <a:t>Data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fdccf"/>
                    </a:solidFill>
                  </a:tcPr>
                </a:tc>
                <a:tc>
                  <a:txBody>
                    <a:bodyPr lIns="85680" rIns="8568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f863f"/>
                          </a:solidFill>
                          <a:latin typeface="Calibri"/>
                        </a:rPr>
                        <a:t>Null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fdccf"/>
                    </a:solidFill>
                  </a:tcPr>
                </a:tc>
                <a:tc>
                  <a:txBody>
                    <a:bodyPr lIns="85680" rIns="8568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f863f"/>
                          </a:solidFill>
                          <a:latin typeface="Calibri"/>
                        </a:rPr>
                        <a:t>Defau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fdccf"/>
                    </a:solidFill>
                  </a:tcPr>
                </a:tc>
                <a:tc>
                  <a:txBody>
                    <a:bodyPr lIns="85680" rIns="8568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f863f"/>
                          </a:solidFill>
                          <a:latin typeface="Calibri"/>
                        </a:rPr>
                        <a:t>Primary K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fdccf"/>
                    </a:solidFill>
                  </a:tcPr>
                </a:tc>
              </a:tr>
              <a:tr h="243000"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4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241200"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I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2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243000"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14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241200"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AI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4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243000"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O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16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241200"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3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243000"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SERI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25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efefef"/>
                    </a:solidFill>
                  </a:tcPr>
                </a:tc>
              </a:tr>
            </a:tbl>
          </a:graphicData>
        </a:graphic>
      </p:graphicFrame>
      <p:sp>
        <p:nvSpPr>
          <p:cNvPr id="101" name="Rectangle 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7"/>
          <p:cNvSpPr/>
          <p:nvPr/>
        </p:nvSpPr>
        <p:spPr>
          <a:xfrm>
            <a:off x="2666880" y="129528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ress 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Calibri"/>
              </a:rPr>
              <a:t>CLIENT ON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371600" y="3200400"/>
          <a:ext cx="6172200" cy="2922480"/>
        </p:xfrm>
        <a:graphic>
          <a:graphicData uri="http://schemas.openxmlformats.org/drawingml/2006/table">
            <a:tbl>
              <a:tblPr/>
              <a:tblGrid>
                <a:gridCol w="1235160"/>
                <a:gridCol w="1233360"/>
                <a:gridCol w="1235160"/>
                <a:gridCol w="1233360"/>
                <a:gridCol w="1235160"/>
              </a:tblGrid>
              <a:tr h="1338120">
                <a:tc>
                  <a:txBody>
                    <a:bodyPr lIns="85680" rIns="8568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f863f"/>
                          </a:solidFill>
                          <a:latin typeface="Calibri"/>
                        </a:rPr>
                        <a:t>Column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fdccf"/>
                    </a:solidFill>
                  </a:tcPr>
                </a:tc>
                <a:tc>
                  <a:txBody>
                    <a:bodyPr lIns="85680" rIns="8568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f863f"/>
                          </a:solidFill>
                          <a:latin typeface="Calibri"/>
                        </a:rPr>
                        <a:t>Data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fdccf"/>
                    </a:solidFill>
                  </a:tcPr>
                </a:tc>
                <a:tc>
                  <a:txBody>
                    <a:bodyPr lIns="85680" rIns="8568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f863f"/>
                          </a:solidFill>
                          <a:latin typeface="Calibri"/>
                        </a:rPr>
                        <a:t>Null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fdccf"/>
                    </a:solidFill>
                  </a:tcPr>
                </a:tc>
                <a:tc>
                  <a:txBody>
                    <a:bodyPr lIns="85680" rIns="8568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f863f"/>
                          </a:solidFill>
                          <a:latin typeface="Calibri"/>
                        </a:rPr>
                        <a:t>Defau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fdccf"/>
                    </a:solidFill>
                  </a:tcPr>
                </a:tc>
                <a:tc>
                  <a:txBody>
                    <a:bodyPr lIns="85680" rIns="8568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f863f"/>
                          </a:solidFill>
                          <a:latin typeface="Calibri"/>
                        </a:rPr>
                        <a:t>Primary K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fdccf"/>
                    </a:solidFill>
                  </a:tcPr>
                </a:tc>
              </a:tr>
              <a:tr h="397080"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I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25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395280"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OMNAM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2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395280"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OFLO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25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396720"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OFLO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25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efefef"/>
                    </a:solidFill>
                  </a:tcPr>
                </a:tc>
              </a:tr>
            </a:tbl>
          </a:graphicData>
        </a:graphic>
      </p:graphicFrame>
      <p:sp>
        <p:nvSpPr>
          <p:cNvPr id="106" name="TextBox 4"/>
          <p:cNvSpPr/>
          <p:nvPr/>
        </p:nvSpPr>
        <p:spPr>
          <a:xfrm>
            <a:off x="2362320" y="20574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Calibri"/>
              </a:rPr>
              <a:t>EMPLOYEE DETAI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523880" y="2678040"/>
          <a:ext cx="6096240" cy="150192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605880">
                <a:tc>
                  <a:txBody>
                    <a:bodyPr lIns="85680" rIns="8568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f863f"/>
                          </a:solidFill>
                          <a:latin typeface="Calibri"/>
                        </a:rPr>
                        <a:t>Column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fdccf"/>
                    </a:solidFill>
                  </a:tcPr>
                </a:tc>
                <a:tc>
                  <a:txBody>
                    <a:bodyPr lIns="85680" rIns="8568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f863f"/>
                          </a:solidFill>
                          <a:latin typeface="Calibri"/>
                        </a:rPr>
                        <a:t>Data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fdccf"/>
                    </a:solidFill>
                  </a:tcPr>
                </a:tc>
                <a:tc>
                  <a:txBody>
                    <a:bodyPr lIns="85680" rIns="8568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f863f"/>
                          </a:solidFill>
                          <a:latin typeface="Calibri"/>
                        </a:rPr>
                        <a:t>Null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fdccf"/>
                    </a:solidFill>
                  </a:tcPr>
                </a:tc>
                <a:tc>
                  <a:txBody>
                    <a:bodyPr lIns="85680" rIns="8568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f863f"/>
                          </a:solidFill>
                          <a:latin typeface="Calibri"/>
                        </a:rPr>
                        <a:t>Defau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fdccf"/>
                    </a:solidFill>
                  </a:tcPr>
                </a:tc>
                <a:tc>
                  <a:txBody>
                    <a:bodyPr lIns="85680" rIns="8568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f863f"/>
                          </a:solidFill>
                          <a:latin typeface="Calibri"/>
                        </a:rPr>
                        <a:t>Primary K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fdccf"/>
                    </a:solidFill>
                  </a:tcPr>
                </a:tc>
              </a:tr>
              <a:tr h="178920"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PI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178920"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1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178920"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_STATU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1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179280"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J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1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178920"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I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25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efefef"/>
                    </a:solidFill>
                  </a:tcPr>
                </a:tc>
              </a:tr>
            </a:tbl>
          </a:graphicData>
        </a:graphic>
      </p:graphicFrame>
      <p:sp>
        <p:nvSpPr>
          <p:cNvPr id="109" name="Rectangle 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2666880" y="175248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mpde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Calibri"/>
              </a:rPr>
              <a:t>ROOM DETAI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523880" y="2857680"/>
          <a:ext cx="6096240" cy="114300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605880">
                <a:tc>
                  <a:txBody>
                    <a:bodyPr lIns="85680" rIns="8568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f863f"/>
                          </a:solidFill>
                          <a:latin typeface="Calibri"/>
                        </a:rPr>
                        <a:t>Column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fdccf"/>
                    </a:solidFill>
                  </a:tcPr>
                </a:tc>
                <a:tc>
                  <a:txBody>
                    <a:bodyPr lIns="85680" rIns="8568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f863f"/>
                          </a:solidFill>
                          <a:latin typeface="Calibri"/>
                        </a:rPr>
                        <a:t>Data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fdccf"/>
                    </a:solidFill>
                  </a:tcPr>
                </a:tc>
                <a:tc>
                  <a:txBody>
                    <a:bodyPr lIns="85680" rIns="8568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f863f"/>
                          </a:solidFill>
                          <a:latin typeface="Calibri"/>
                        </a:rPr>
                        <a:t>Null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fdccf"/>
                    </a:solidFill>
                  </a:tcPr>
                </a:tc>
                <a:tc>
                  <a:txBody>
                    <a:bodyPr lIns="85680" rIns="8568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f863f"/>
                          </a:solidFill>
                          <a:latin typeface="Calibri"/>
                        </a:rPr>
                        <a:t>Defau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fdccf"/>
                    </a:solidFill>
                  </a:tcPr>
                </a:tc>
                <a:tc>
                  <a:txBody>
                    <a:bodyPr lIns="85680" rIns="85680" tIns="28440" bIns="284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f863f"/>
                          </a:solidFill>
                          <a:latin typeface="Calibri"/>
                        </a:rPr>
                        <a:t>Primary K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fdccf"/>
                    </a:solidFill>
                  </a:tcPr>
                </a:tc>
              </a:tr>
              <a:tr h="178920"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OMNAM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25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179280"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2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178920"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AT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25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aaaaaa"/>
                      </a:solidFill>
                    </a:lnL>
                    <a:lnR w="4320">
                      <a:solidFill>
                        <a:srgbClr val="aaaaaa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solidFill>
                      <a:srgbClr val="efefef"/>
                    </a:solidFill>
                  </a:tcPr>
                </a:tc>
              </a:tr>
            </a:tbl>
          </a:graphicData>
        </a:graphic>
      </p:graphicFrame>
      <p:sp>
        <p:nvSpPr>
          <p:cNvPr id="113" name="Rectangle 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5"/>
          <p:cNvSpPr/>
          <p:nvPr/>
        </p:nvSpPr>
        <p:spPr>
          <a:xfrm>
            <a:off x="2209680" y="167652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oomde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Calibri"/>
              </a:rPr>
              <a:t>USER DETAI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523880" y="2830680"/>
          <a:ext cx="6096240" cy="372240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331560">
                <a:tc gridSpan="5"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d09c32"/>
                      </a:solidFill>
                    </a:lnT>
                    <a:lnB w="4320">
                      <a:solidFill>
                        <a:srgbClr val="d09c32"/>
                      </a:solidFill>
                    </a:lnB>
                    <a:solidFill>
                      <a:srgbClr val="efef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09c32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d09c32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d09c32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d09c32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d09c32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8920">
                <a:tc>
                  <a:txBody>
                    <a:bodyPr lIns="85680" rIns="85680" tIns="28440" bIns="2844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f863f"/>
                          </a:solidFill>
                          <a:latin typeface="Calibri"/>
                        </a:rPr>
                        <a:t>Column Nam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fdccf"/>
                    </a:solidFill>
                  </a:tcPr>
                </a:tc>
                <a:tc>
                  <a:txBody>
                    <a:bodyPr lIns="85680" rIns="85680" tIns="28440" bIns="2844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f863f"/>
                          </a:solidFill>
                          <a:latin typeface="Calibri"/>
                        </a:rPr>
                        <a:t>Data Typ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fdccf"/>
                    </a:solidFill>
                  </a:tcPr>
                </a:tc>
                <a:tc>
                  <a:txBody>
                    <a:bodyPr lIns="85680" rIns="85680" tIns="28440" bIns="2844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f863f"/>
                          </a:solidFill>
                          <a:latin typeface="Calibri"/>
                        </a:rPr>
                        <a:t>Nullab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fdccf"/>
                    </a:solidFill>
                  </a:tcPr>
                </a:tc>
                <a:tc>
                  <a:txBody>
                    <a:bodyPr lIns="85680" rIns="85680" tIns="28440" bIns="2844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f863f"/>
                          </a:solidFill>
                          <a:latin typeface="Calibri"/>
                        </a:rPr>
                        <a:t>Defaul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fdccf"/>
                    </a:solidFill>
                  </a:tcPr>
                </a:tc>
                <a:tc>
                  <a:txBody>
                    <a:bodyPr lIns="85680" rIns="85680" tIns="28440" bIns="2844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3f863f"/>
                          </a:solidFill>
                          <a:latin typeface="Calibri"/>
                        </a:rPr>
                        <a:t>Primary Ke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cfdccf"/>
                    </a:solidFill>
                  </a:tcPr>
                </a:tc>
              </a:tr>
              <a:tr h="178920"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I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25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178920"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6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178920"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DRES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12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178920"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6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178920"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O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12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178920"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AI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5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178920"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1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178920"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UC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3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178920"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UNTR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25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178920"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2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178920"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25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178920"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00319c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2(12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00319c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00319c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00319c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9c32"/>
                      </a:solidFill>
                    </a:lnL>
                    <a:lnR w="4320">
                      <a:solidFill>
                        <a:srgbClr val="d09c32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00319c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331560">
                <a:tc gridSpan="5">
                  <a:txBody>
                    <a:bodyPr lIns="85680" rIns="8568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00319c"/>
                      </a:solidFill>
                    </a:lnL>
                    <a:lnR w="4320">
                      <a:solidFill>
                        <a:srgbClr val="00319c"/>
                      </a:solidFill>
                    </a:lnR>
                    <a:lnT w="4320">
                      <a:solidFill>
                        <a:srgbClr val="00319c"/>
                      </a:solidFill>
                    </a:lnT>
                    <a:lnB w="4320">
                      <a:solidFill>
                        <a:srgbClr val="00319c"/>
                      </a:solidFill>
                    </a:lnB>
                    <a:solidFill>
                      <a:srgbClr val="efef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20329c"/>
                      </a:solidFill>
                    </a:lnL>
                    <a:lnR w="4320">
                      <a:solidFill>
                        <a:srgbClr val="d0359c"/>
                      </a:solidFill>
                    </a:lnR>
                    <a:lnT w="4320">
                      <a:solidFill>
                        <a:srgbClr val="20329c"/>
                      </a:solidFill>
                    </a:lnT>
                    <a:lnB w="4320">
                      <a:solidFill>
                        <a:srgbClr val="20329c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85680" rIns="85680" tIns="28440" bIns="284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4320">
                      <a:solidFill>
                        <a:srgbClr val="d0359c"/>
                      </a:solidFill>
                    </a:lnL>
                    <a:lnR w="4320">
                      <a:solidFill>
                        <a:srgbClr val="d0359c"/>
                      </a:solidFill>
                    </a:lnR>
                    <a:lnT w="4320">
                      <a:solidFill>
                        <a:srgbClr val="d0359c"/>
                      </a:solidFill>
                    </a:lnT>
                    <a:lnB w="4320">
                      <a:solidFill>
                        <a:srgbClr val="d0359c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0359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319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319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319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Rectangle 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2590920" y="17524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rde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Calibri"/>
              </a:rPr>
              <a:t>Scree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547560" y="1600200"/>
            <a:ext cx="8048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Calibri"/>
              </a:rPr>
              <a:t>ADMIN LOG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547560" y="1600200"/>
            <a:ext cx="8048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Calibri"/>
              </a:rPr>
              <a:t>ADMINISTRA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547560" y="1600200"/>
            <a:ext cx="8048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Calibri"/>
              </a:rPr>
              <a:t>Abstra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eloping the communication with all persons of the same organ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Calibri"/>
              </a:rPr>
              <a:t>WELCOME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547560" y="1600200"/>
            <a:ext cx="8048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Calibri"/>
              </a:rPr>
              <a:t>C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547560" y="1600200"/>
            <a:ext cx="8048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Calibri"/>
              </a:rPr>
              <a:t>MMMMMMMMMMMMMMMMMMMMMMMMMMMMMMMMMMMMMMMMMMMMMMMMMMMMMMMMMMMMMMMMMMMMMMMMMMMMMMMMMMMMMMMM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547560" y="1600200"/>
            <a:ext cx="8048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899"/>
              </a:solidFill>
              <a:latin typeface="Calibri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992160" y="1017720"/>
            <a:ext cx="7389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899"/>
              </a:solidFill>
              <a:latin typeface="Calibri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547560" y="1600200"/>
            <a:ext cx="8048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899"/>
              </a:solidFill>
              <a:latin typeface="Calibri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547560" y="1600200"/>
            <a:ext cx="8048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Calibri"/>
              </a:rPr>
              <a:t>SCOPE FOR THE FU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Over a period of  time the Global communication project can be implemented to provide aud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It can be implemented to provide vide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263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The objective of this project is to conduct conferences  on the Internet or Intran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.GOWTHAM(07D01A0517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.KALYANI RAMU(07D01A0520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.VAMSHI KRISHNA(07D01A0553)   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Calibri"/>
              </a:rPr>
              <a:t>PARTS OF GLOBAL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duct conferenc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anches throughout the  Glob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Calibri"/>
              </a:rPr>
              <a:t>Mod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m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Calibri"/>
              </a:rPr>
              <a:t>Adm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Edit, and Delete Conference Roo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, Edit, and Delete Us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erator Privileg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ew and Delete Message Archiv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ew Statistic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n Us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Calibri"/>
              </a:rPr>
              <a:t>Us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r Registr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vate Messa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Ro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sts all Users in Conference Ro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ew profil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Calibri"/>
              </a:rPr>
              <a:t>Software requi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rver Operation System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ndows 2000 Professiona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ent Operating System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ndows 2000 Professiona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ftware Used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2sdk1.4.2_04, Internet Explorer 5.0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b server Used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mcat 5.0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anguages Used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SP, Servlets, JDBC, Java Script, CSS and HTM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tabase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racle 8i (8.1.5.0.0).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899"/>
                </a:solidFill>
                <a:latin typeface="Calibri"/>
              </a:rPr>
              <a:t>Hardware Requi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RV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NTIUM IV 2.4GHz, With Dual Process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8MB 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56 KB EXTERNAL CACHE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 GB HARD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b9899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7b9899"/>
                </a:solidFill>
                <a:latin typeface="Calibri"/>
              </a:rPr>
              <a:t>Architectural Dia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Group 2"/>
          <p:cNvGrpSpPr/>
          <p:nvPr/>
        </p:nvGrpSpPr>
        <p:grpSpPr>
          <a:xfrm>
            <a:off x="1706400" y="3608280"/>
            <a:ext cx="4846680" cy="1973520"/>
            <a:chOff x="1706400" y="3608280"/>
            <a:chExt cx="4846680" cy="1973520"/>
          </a:xfrm>
        </p:grpSpPr>
        <p:sp>
          <p:nvSpPr>
            <p:cNvPr id="66" name="Oval 3"/>
            <p:cNvSpPr/>
            <p:nvPr/>
          </p:nvSpPr>
          <p:spPr>
            <a:xfrm>
              <a:off x="3260880" y="3753000"/>
              <a:ext cx="1280160" cy="137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Server on Internet/Intran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4"/>
            <p:cNvSpPr/>
            <p:nvPr/>
          </p:nvSpPr>
          <p:spPr>
            <a:xfrm>
              <a:off x="1706400" y="3753000"/>
              <a:ext cx="822960" cy="36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Cli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5"/>
            <p:cNvSpPr/>
            <p:nvPr/>
          </p:nvSpPr>
          <p:spPr>
            <a:xfrm>
              <a:off x="5730120" y="5124600"/>
              <a:ext cx="822960" cy="36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Cli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6"/>
            <p:cNvSpPr/>
            <p:nvPr/>
          </p:nvSpPr>
          <p:spPr>
            <a:xfrm flipV="1">
              <a:off x="1889280" y="5216040"/>
              <a:ext cx="914400" cy="36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Cli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7"/>
            <p:cNvSpPr/>
            <p:nvPr/>
          </p:nvSpPr>
          <p:spPr>
            <a:xfrm>
              <a:off x="5638680" y="3608280"/>
              <a:ext cx="914400" cy="36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Cli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8"/>
            <p:cNvSpPr/>
            <p:nvPr/>
          </p:nvSpPr>
          <p:spPr>
            <a:xfrm flipV="1">
              <a:off x="2803680" y="4850640"/>
              <a:ext cx="5486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9"/>
            <p:cNvSpPr/>
            <p:nvPr/>
          </p:nvSpPr>
          <p:spPr>
            <a:xfrm flipH="1" flipV="1">
              <a:off x="4541040" y="4759200"/>
              <a:ext cx="1188720" cy="54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10"/>
            <p:cNvSpPr/>
            <p:nvPr/>
          </p:nvSpPr>
          <p:spPr>
            <a:xfrm>
              <a:off x="2529360" y="3935880"/>
              <a:ext cx="731520" cy="36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11"/>
            <p:cNvSpPr/>
            <p:nvPr/>
          </p:nvSpPr>
          <p:spPr>
            <a:xfrm flipH="1">
              <a:off x="4541040" y="3791160"/>
              <a:ext cx="1097280" cy="36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05:45:58Z</dcterms:created>
  <dc:creator>srik</dc:creator>
  <dc:description/>
  <dc:language>en-US</dc:language>
  <cp:lastModifiedBy>Badra</cp:lastModifiedBy>
  <dcterms:modified xsi:type="dcterms:W3CDTF">2011-04-06T20:06:22Z</dcterms:modified>
  <cp:revision>35</cp:revision>
  <dc:subject/>
  <dc:title>Global Communication Media</dc:title>
</cp:coreProperties>
</file>