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wmf" ContentType="image/x-wmf"/>
  <Override PartName="/ppt/media/image24.png" ContentType="image/png"/>
  <Override PartName="/ppt/media/image23.wmf" ContentType="image/x-wmf"/>
  <Override PartName="/ppt/media/image22.wmf" ContentType="image/x-wmf"/>
  <Override PartName="/ppt/media/image21.wmf" ContentType="image/x-wmf"/>
  <Override PartName="/ppt/media/image19.png" ContentType="image/png"/>
  <Override PartName="/ppt/media/image2.wmf" ContentType="image/x-wmf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11066-72CD-4E14-98D9-3B55B7709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2ABCD-FCB3-4709-8F0B-359764FCB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528F6-7184-4FBB-9B97-D8A94C90E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07F32-D527-4AFE-AABB-2B819A18D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E11EE-8633-4379-B97B-C7CF4D198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7FC42-14C2-4E37-B760-4EAE5968B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CE803-8F2D-462A-812C-FCE8795C2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55260-8B1B-4CF7-A00F-54A706610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3CE57-6FB7-4B03-85CD-099217326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15384-14EF-4FBA-832E-8BE0465E0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CC947-CF81-4B37-A329-B06E3E302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4770A-F785-4551-844E-2FF6B4D83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81a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6B3EC-6EAB-43A5-AB6C-1F9ACEEB76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3.png"/><Relationship Id="rId16" Type="http://schemas.openxmlformats.org/officeDocument/2006/relationships/image" Target="../media/image3.png"/><Relationship Id="rId17" Type="http://schemas.openxmlformats.org/officeDocument/2006/relationships/image" Target="../media/image3.png"/><Relationship Id="rId18" Type="http://schemas.openxmlformats.org/officeDocument/2006/relationships/image" Target="../media/image3.png"/><Relationship Id="rId19" Type="http://schemas.openxmlformats.org/officeDocument/2006/relationships/image" Target="../media/image3.png"/><Relationship Id="rId20" Type="http://schemas.openxmlformats.org/officeDocument/2006/relationships/image" Target="../media/image3.png"/><Relationship Id="rId2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wmf"/><Relationship Id="rId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81a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447920" y="441936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21560" y="272880"/>
            <a:ext cx="455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ntegrated Manufacturing Information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80880" y="6248520"/>
            <a:ext cx="777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fence Research &amp; Development Laboratory, Hyderab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1447920"/>
            <a:ext cx="7239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MPUTERISED MAINTENANCE MANAGEMENT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38080" y="2819520"/>
            <a:ext cx="723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914400" y="3886200"/>
            <a:ext cx="723888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.SAI LAKSHMI (07D01A0599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K.AMUKTHA( 07D01A056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H.UDAYALAKSHMI (07D01A05B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81a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152280" y="152280"/>
            <a:ext cx="8915400" cy="6629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>
            <a:off x="6083280" y="1523880"/>
            <a:ext cx="2832120" cy="272592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/>
          <p:nvPr/>
        </p:nvSpPr>
        <p:spPr>
          <a:xfrm>
            <a:off x="533520" y="1523880"/>
            <a:ext cx="6705360" cy="49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llowing details are maintain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ew instal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reakdown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eventive mainten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instal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gra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tro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achine downtime is calculated in days basing on breakdown his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57200" y="457200"/>
            <a:ext cx="723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MACHINE HIS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304920" y="44280"/>
            <a:ext cx="373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57009"/>
                </a:solidFill>
                <a:latin typeface="Arial"/>
              </a:rPr>
              <a:t>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7" name=""/>
          <p:cNvGraphicFramePr/>
          <p:nvPr/>
        </p:nvGraphicFramePr>
        <p:xfrm>
          <a:off x="228600" y="879480"/>
          <a:ext cx="8763120" cy="5216400"/>
        </p:xfrm>
        <a:graphic>
          <a:graphicData uri="http://schemas.openxmlformats.org/drawingml/2006/table">
            <a:tbl>
              <a:tblPr/>
              <a:tblGrid>
                <a:gridCol w="1828800"/>
                <a:gridCol w="990720"/>
                <a:gridCol w="1143000"/>
                <a:gridCol w="990360"/>
                <a:gridCol w="990720"/>
                <a:gridCol w="914400"/>
                <a:gridCol w="1066680"/>
                <a:gridCol w="838440"/>
              </a:tblGrid>
              <a:tr h="8748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f3fbd"/>
                          </a:solidFill>
                          <a:latin typeface="Arial"/>
                        </a:rPr>
                        <a:t>PROCESS</a:t>
                      </a:r>
                      <a:r>
                        <a:rPr b="0" lang="en-US" sz="2000" spc="-1" strike="noStrike">
                          <a:solidFill>
                            <a:srgbClr val="3f3fbd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f3fbd"/>
                          </a:solidFill>
                          <a:latin typeface="Arial"/>
                        </a:rPr>
                        <a:t>US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f3fbd"/>
                          </a:solidFill>
                          <a:latin typeface="Arial"/>
                        </a:rPr>
                        <a:t>INS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f3fbd"/>
                          </a:solidFill>
                          <a:latin typeface="Arial"/>
                        </a:rPr>
                        <a:t>RETROFIT REINSTAL UPGRADE</a:t>
                      </a:r>
                      <a:r>
                        <a:rPr b="0" lang="en-US" sz="1400" spc="-1" strike="noStrike">
                          <a:solidFill>
                            <a:srgbClr val="3f3fbd"/>
                          </a:solidFill>
                          <a:latin typeface="Arial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f3fbd"/>
                          </a:solidFill>
                          <a:latin typeface="Arial"/>
                        </a:rPr>
                        <a:t>BREAK DOWN REQ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f3fbd"/>
                          </a:solidFill>
                          <a:latin typeface="Arial"/>
                        </a:rPr>
                        <a:t>BREAK DOW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f3fbd"/>
                          </a:solidFill>
                          <a:latin typeface="Arial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f3fbd"/>
                          </a:solidFill>
                          <a:latin typeface="Arial"/>
                        </a:rPr>
                        <a:t>PREV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f3fbd"/>
                          </a:solidFill>
                          <a:latin typeface="Arial"/>
                        </a:rPr>
                        <a:t>PL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f3fbd"/>
                          </a:solidFill>
                          <a:latin typeface="Arial"/>
                        </a:rPr>
                        <a:t>PREV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f3fbd"/>
                          </a:solidFill>
                          <a:latin typeface="Arial"/>
                        </a:rPr>
                        <a:t>CHA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f3fbd"/>
                          </a:solidFill>
                          <a:latin typeface="Arial"/>
                        </a:rPr>
                        <a:t>VIEW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07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f3fbd"/>
                          </a:solidFill>
                          <a:latin typeface="Arial"/>
                        </a:rPr>
                        <a:t>SHOP FLO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buSzPct val="102837"/>
                        <a:buBlip>
                          <a:blip r:embed="rId1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buSzPct val="102837"/>
                        <a:buBlip>
                          <a:blip r:embed="rId2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buSzPct val="102837"/>
                        <a:buBlip>
                          <a:blip r:embed="rId3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buSzPct val="102837"/>
                        <a:buBlip>
                          <a:blip r:embed="rId4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buSzPct val="102837"/>
                        <a:buBlip>
                          <a:blip r:embed="rId5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buSzPct val="102837"/>
                        <a:buBlip>
                          <a:blip r:embed="rId6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buClr>
                          <a:srgbClr val="cc66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07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f3fbd"/>
                          </a:solidFill>
                          <a:latin typeface="Arial"/>
                        </a:rPr>
                        <a:t>SHOP FLO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f3fbd"/>
                          </a:solidFill>
                          <a:latin typeface="Arial"/>
                        </a:rPr>
                        <a:t>INCHAR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buSzPct val="102837"/>
                        <a:buBlip>
                          <a:blip r:embed="rId7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buSzPct val="102837"/>
                        <a:buBlip>
                          <a:blip r:embed="rId8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buClr>
                          <a:srgbClr val="cc66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buSzPct val="102837"/>
                        <a:buBlip>
                          <a:blip r:embed="rId9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buSzPct val="102837"/>
                        <a:buBlip>
                          <a:blip r:embed="rId10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buSzPct val="102837"/>
                        <a:buBlip>
                          <a:blip r:embed="rId11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buClr>
                          <a:srgbClr val="cc66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748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f3fbd"/>
                          </a:solidFill>
                          <a:latin typeface="Arial"/>
                        </a:rPr>
                        <a:t>MAINTENANCE STAF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buSzPct val="102837"/>
                        <a:buBlip>
                          <a:blip r:embed="rId12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buClr>
                          <a:srgbClr val="cc66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buSzPct val="102837"/>
                        <a:buBlip>
                          <a:blip r:embed="rId13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buClr>
                          <a:srgbClr val="cc66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buClr>
                          <a:srgbClr val="cc66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buClr>
                          <a:srgbClr val="cc66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buClr>
                          <a:srgbClr val="cc66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25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f3fbd"/>
                          </a:solidFill>
                          <a:latin typeface="Arial"/>
                        </a:rPr>
                        <a:t>MAINTENAN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f3fbd"/>
                          </a:solidFill>
                          <a:latin typeface="Arial"/>
                        </a:rPr>
                        <a:t>ADMINSTRAT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buClr>
                          <a:srgbClr val="cc66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buClr>
                          <a:srgbClr val="cc66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buSzPct val="102837"/>
                        <a:buBlip>
                          <a:blip r:embed="rId14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buClr>
                          <a:srgbClr val="cc66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buClr>
                          <a:srgbClr val="cc66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buClr>
                          <a:srgbClr val="cc66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buClr>
                          <a:srgbClr val="cc66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25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f3fbd"/>
                          </a:solidFill>
                          <a:latin typeface="Arial"/>
                        </a:rPr>
                        <a:t>ALL USE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buSzPct val="102837"/>
                        <a:buBlip>
                          <a:blip r:embed="rId15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buSzPct val="102837"/>
                        <a:buBlip>
                          <a:blip r:embed="rId16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buSzPct val="102837"/>
                        <a:buBlip>
                          <a:blip r:embed="rId17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buSzPct val="102837"/>
                        <a:buBlip>
                          <a:blip r:embed="rId18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buSzPct val="102837"/>
                        <a:buBlip>
                          <a:blip r:embed="rId19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buSzPct val="102837"/>
                        <a:buBlip>
                          <a:blip r:embed="rId20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cc66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78" name=""/>
          <p:cNvSpPr/>
          <p:nvPr/>
        </p:nvSpPr>
        <p:spPr>
          <a:xfrm>
            <a:off x="152280" y="152280"/>
            <a:ext cx="8915400" cy="6629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28600" y="1371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81a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80880" y="457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57200" y="1325520"/>
            <a:ext cx="7924680" cy="55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heck  each and every module for proper functio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125"/>
              </a:spcBef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st for proper insertion, deletion, updation and querying of recor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125"/>
              </a:spcBef>
              <a:buClr>
                <a:srgbClr val="ffffff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rify the functioning of Triggers, Alerts, Procedures, Cursors and Post-Queries of all the modu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125"/>
              </a:spcBef>
              <a:buClr>
                <a:srgbClr val="ffffff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e read only attributes of a form are protected against upda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125"/>
              </a:spcBef>
              <a:buClr>
                <a:srgbClr val="ffffff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o check for data integrity and data securi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Forms initiated can be modified by respective persons on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Authorized access of inform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Generation of work order n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7391520" y="304920"/>
            <a:ext cx="1600200" cy="166356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/>
          <p:nvPr/>
        </p:nvSpPr>
        <p:spPr>
          <a:xfrm>
            <a:off x="152280" y="152280"/>
            <a:ext cx="8915400" cy="6629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152280" y="152280"/>
            <a:ext cx="8915400" cy="6629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893880" y="1596960"/>
            <a:ext cx="877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092240" y="803160"/>
            <a:ext cx="0" cy="765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598320" y="803160"/>
            <a:ext cx="0" cy="765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2141640" y="803160"/>
            <a:ext cx="2468520" cy="2001960"/>
            <a:chOff x="2141640" y="803160"/>
            <a:chExt cx="2468520" cy="2001960"/>
          </a:xfrm>
        </p:grpSpPr>
        <p:sp>
          <p:nvSpPr>
            <p:cNvPr id="289" name=""/>
            <p:cNvSpPr/>
            <p:nvPr/>
          </p:nvSpPr>
          <p:spPr>
            <a:xfrm>
              <a:off x="2141640" y="803160"/>
              <a:ext cx="0" cy="2001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141640" y="1097280"/>
              <a:ext cx="86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141640" y="1509480"/>
              <a:ext cx="129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141640" y="1921680"/>
              <a:ext cx="1604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141640" y="2333880"/>
              <a:ext cx="203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141640" y="2746440"/>
              <a:ext cx="2468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598320" y="1216080"/>
            <a:ext cx="493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1092240" y="1392120"/>
            <a:ext cx="1049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0" y="157320"/>
            <a:ext cx="1547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ERSONAL No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amp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SSWOR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1092240" y="1038240"/>
            <a:ext cx="925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LANT MAINTEN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2157480" y="709560"/>
            <a:ext cx="1011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CHINE DETAI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141640" y="1320840"/>
            <a:ext cx="121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INTEN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2265480" y="1569960"/>
            <a:ext cx="10872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ORK PLANN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219400" y="2112840"/>
            <a:ext cx="1133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VENT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112840" y="253692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SCELLANEO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129120" y="861840"/>
            <a:ext cx="0" cy="35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622680" y="1274760"/>
            <a:ext cx="0" cy="352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930480" y="1627200"/>
            <a:ext cx="0" cy="35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300560" y="2039760"/>
            <a:ext cx="0" cy="352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4672080" y="2452680"/>
            <a:ext cx="0" cy="352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3123000" y="723960"/>
            <a:ext cx="840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enu Ma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617280" y="1254240"/>
            <a:ext cx="839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enu Mai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3883320" y="1608120"/>
            <a:ext cx="799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enu wor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4301640" y="1960560"/>
            <a:ext cx="700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enu In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4691880" y="231444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enu Mi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8440" y="3352680"/>
            <a:ext cx="129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LANT MAINTEN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38280" y="228600"/>
            <a:ext cx="441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UML DIAGRAM FOR PLANT MAINTEN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533520" y="3487680"/>
            <a:ext cx="5057640" cy="2303640"/>
            <a:chOff x="533520" y="3487680"/>
            <a:chExt cx="5057640" cy="2303640"/>
          </a:xfrm>
        </p:grpSpPr>
        <p:sp>
          <p:nvSpPr>
            <p:cNvPr id="317" name=""/>
            <p:cNvSpPr/>
            <p:nvPr/>
          </p:nvSpPr>
          <p:spPr>
            <a:xfrm>
              <a:off x="2286000" y="3809880"/>
              <a:ext cx="0" cy="198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286000" y="5486400"/>
              <a:ext cx="2666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181480" y="5181480"/>
              <a:ext cx="0" cy="35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33520" y="380988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286000" y="4191120"/>
              <a:ext cx="1447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2286000" y="4800600"/>
              <a:ext cx="2057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33520" y="4343400"/>
              <a:ext cx="175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65000" y="4062240"/>
              <a:ext cx="1078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achine Detail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803680" y="4495680"/>
              <a:ext cx="183960" cy="21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2803680" y="5257800"/>
              <a:ext cx="18396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743200" y="4495680"/>
              <a:ext cx="184320" cy="21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743200" y="3886200"/>
              <a:ext cx="1843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43200" y="3962520"/>
              <a:ext cx="1843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291400" y="3960720"/>
              <a:ext cx="1080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STALLA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364840" y="4552920"/>
              <a:ext cx="1290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E INSTALLA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422080" y="5191200"/>
              <a:ext cx="110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UPGRADA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4038480" y="3886200"/>
              <a:ext cx="0" cy="35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4572000" y="4495680"/>
              <a:ext cx="0" cy="35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697560" y="3487680"/>
              <a:ext cx="531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instb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98040" y="4114800"/>
              <a:ext cx="474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rinb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5003640" y="4876920"/>
              <a:ext cx="587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upgrb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8" name=""/>
          <p:cNvSpPr/>
          <p:nvPr/>
        </p:nvSpPr>
        <p:spPr>
          <a:xfrm>
            <a:off x="2438280" y="3124080"/>
            <a:ext cx="441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UML DIAGRAM FOR MACHINE DETAI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152280" y="152280"/>
            <a:ext cx="8915400" cy="6629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438280" y="228600"/>
            <a:ext cx="441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UML DIAGRAM FOR MAINTEN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2133720" y="914400"/>
            <a:ext cx="0" cy="32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56240" y="668160"/>
            <a:ext cx="1099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INTEN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893880" y="1442880"/>
            <a:ext cx="877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762120" y="873000"/>
            <a:ext cx="0" cy="63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2133720" y="106524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28680" y="202896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2133720" y="2743200"/>
            <a:ext cx="2133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2133720" y="3657600"/>
            <a:ext cx="2590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352680" y="936720"/>
            <a:ext cx="0" cy="31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3886200" y="1905120"/>
            <a:ext cx="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4419720" y="2590920"/>
            <a:ext cx="0" cy="31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876920" y="3505320"/>
            <a:ext cx="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762120" y="12556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918360" y="1065240"/>
            <a:ext cx="1099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INTEN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7400" y="1676520"/>
            <a:ext cx="144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RKDN MAINT REQ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2074320" y="785880"/>
            <a:ext cx="1338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RKDN MAINT A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2290680" y="2438280"/>
            <a:ext cx="146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EV. MAINT SCH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2290680" y="3352680"/>
            <a:ext cx="151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EV. MAINTEN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292920" y="66816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bma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3812040" y="1600200"/>
            <a:ext cx="55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bmr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4268880" y="2362320"/>
            <a:ext cx="573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pms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4802760" y="3200400"/>
            <a:ext cx="55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pmr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3" name=""/>
          <p:cNvGraphicFramePr/>
          <p:nvPr/>
        </p:nvGraphicFramePr>
        <p:xfrm>
          <a:off x="1811160" y="5153040"/>
          <a:ext cx="6799320" cy="1704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11160" y="5153040"/>
                    <a:ext cx="6799320" cy="170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5" name=""/>
          <p:cNvGraphicFramePr/>
          <p:nvPr/>
        </p:nvGraphicFramePr>
        <p:xfrm>
          <a:off x="1760400" y="3733920"/>
          <a:ext cx="6850080" cy="1628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0400" y="3733920"/>
                    <a:ext cx="6850080" cy="162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7" name=""/>
          <p:cNvGraphicFramePr/>
          <p:nvPr/>
        </p:nvGraphicFramePr>
        <p:xfrm>
          <a:off x="2562120" y="162000"/>
          <a:ext cx="5591160" cy="600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6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562120" y="162000"/>
                    <a:ext cx="5591160" cy="60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69" name="" descr=""/>
          <p:cNvPicPr/>
          <p:nvPr/>
        </p:nvPicPr>
        <p:blipFill>
          <a:blip r:embed="rId7"/>
          <a:stretch/>
        </p:blipFill>
        <p:spPr>
          <a:xfrm>
            <a:off x="2587680" y="685800"/>
            <a:ext cx="5565600" cy="320688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sp>
        <p:nvSpPr>
          <p:cNvPr id="370" name=""/>
          <p:cNvSpPr/>
          <p:nvPr/>
        </p:nvSpPr>
        <p:spPr>
          <a:xfrm>
            <a:off x="1050840" y="2017800"/>
            <a:ext cx="1082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1373760" y="2635200"/>
            <a:ext cx="108144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HISTO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152280" y="152280"/>
            <a:ext cx="8915400" cy="6629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480960" y="4311720"/>
            <a:ext cx="11941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UPGRA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HISTO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610920" y="5715000"/>
            <a:ext cx="11941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REINST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HISTO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8"/>
          <a:stretch/>
        </p:blipFill>
        <p:spPr>
          <a:xfrm>
            <a:off x="304920" y="838080"/>
            <a:ext cx="1523880" cy="1752840"/>
          </a:xfrm>
          <a:prstGeom prst="rect">
            <a:avLst/>
          </a:prstGeom>
          <a:ln w="0">
            <a:noFill/>
          </a:ln>
        </p:spPr>
      </p:pic>
      <p:sp>
        <p:nvSpPr>
          <p:cNvPr id="376" name=""/>
          <p:cNvSpPr/>
          <p:nvPr/>
        </p:nvSpPr>
        <p:spPr>
          <a:xfrm>
            <a:off x="304920" y="304920"/>
            <a:ext cx="16761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f3fbd"/>
                </a:solidFill>
                <a:latin typeface="Arial"/>
              </a:rPr>
              <a:t>SCRE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" descr=""/>
          <p:cNvPicPr/>
          <p:nvPr/>
        </p:nvPicPr>
        <p:blipFill>
          <a:blip r:embed="rId1"/>
          <a:stretch/>
        </p:blipFill>
        <p:spPr>
          <a:xfrm>
            <a:off x="1066680" y="533520"/>
            <a:ext cx="6858000" cy="472428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sp>
        <p:nvSpPr>
          <p:cNvPr id="378" name=""/>
          <p:cNvSpPr/>
          <p:nvPr/>
        </p:nvSpPr>
        <p:spPr>
          <a:xfrm>
            <a:off x="2895480" y="5530680"/>
            <a:ext cx="25909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FAILUR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152280" y="152280"/>
            <a:ext cx="8915400" cy="6629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" descr=""/>
          <p:cNvPicPr/>
          <p:nvPr/>
        </p:nvPicPr>
        <p:blipFill>
          <a:blip r:embed="rId1"/>
          <a:srcRect l="0" t="3263" r="0" b="0"/>
          <a:stretch/>
        </p:blipFill>
        <p:spPr>
          <a:xfrm>
            <a:off x="1371600" y="343080"/>
            <a:ext cx="7620120" cy="3390840"/>
          </a:xfrm>
          <a:prstGeom prst="rect">
            <a:avLst/>
          </a:prstGeom>
          <a:ln w="0">
            <a:noFill/>
          </a:ln>
        </p:spPr>
      </p:pic>
      <p:pic>
        <p:nvPicPr>
          <p:cNvPr id="381" name="" descr=""/>
          <p:cNvPicPr/>
          <p:nvPr/>
        </p:nvPicPr>
        <p:blipFill>
          <a:blip r:embed="rId2"/>
          <a:srcRect l="0" t="2873" r="0" b="0"/>
          <a:stretch/>
        </p:blipFill>
        <p:spPr>
          <a:xfrm>
            <a:off x="1371600" y="3448080"/>
            <a:ext cx="7620120" cy="3219480"/>
          </a:xfrm>
          <a:prstGeom prst="rect">
            <a:avLst/>
          </a:prstGeom>
          <a:ln w="0">
            <a:noFill/>
          </a:ln>
        </p:spPr>
      </p:pic>
      <p:sp>
        <p:nvSpPr>
          <p:cNvPr id="382" name=""/>
          <p:cNvSpPr/>
          <p:nvPr/>
        </p:nvSpPr>
        <p:spPr>
          <a:xfrm>
            <a:off x="152280" y="152280"/>
            <a:ext cx="8915400" cy="6629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7162920" y="34920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f3fbd"/>
                </a:solidFill>
                <a:latin typeface="Arial"/>
              </a:rPr>
              <a:t>INSTAL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" descr=""/>
          <p:cNvPicPr/>
          <p:nvPr/>
        </p:nvPicPr>
        <p:blipFill>
          <a:blip r:embed="rId1"/>
          <a:srcRect l="0" t="2526" r="0" b="0"/>
          <a:stretch/>
        </p:blipFill>
        <p:spPr>
          <a:xfrm>
            <a:off x="457200" y="399960"/>
            <a:ext cx="7620120" cy="3676680"/>
          </a:xfrm>
          <a:prstGeom prst="rect">
            <a:avLst/>
          </a:prstGeom>
          <a:ln w="0">
            <a:noFill/>
          </a:ln>
        </p:spPr>
      </p:pic>
      <p:pic>
        <p:nvPicPr>
          <p:cNvPr id="385" name="" descr=""/>
          <p:cNvPicPr/>
          <p:nvPr/>
        </p:nvPicPr>
        <p:blipFill>
          <a:blip r:embed="rId2"/>
          <a:srcRect l="0" t="3163" r="0" b="0"/>
          <a:stretch/>
        </p:blipFill>
        <p:spPr>
          <a:xfrm>
            <a:off x="457200" y="3867120"/>
            <a:ext cx="7620120" cy="2914560"/>
          </a:xfrm>
          <a:prstGeom prst="rect">
            <a:avLst/>
          </a:prstGeom>
          <a:ln w="0">
            <a:noFill/>
          </a:ln>
        </p:spPr>
      </p:pic>
      <p:sp>
        <p:nvSpPr>
          <p:cNvPr id="386" name=""/>
          <p:cNvSpPr/>
          <p:nvPr/>
        </p:nvSpPr>
        <p:spPr>
          <a:xfrm>
            <a:off x="152280" y="152280"/>
            <a:ext cx="8915400" cy="6629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781680" y="2590920"/>
            <a:ext cx="20574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f3fbd"/>
                </a:solidFill>
                <a:latin typeface="Arial"/>
              </a:rPr>
              <a:t>INSTAL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f3fbd"/>
                </a:solidFill>
                <a:latin typeface="Arial"/>
              </a:rPr>
              <a:t>Continued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" descr=""/>
          <p:cNvPicPr/>
          <p:nvPr/>
        </p:nvPicPr>
        <p:blipFill>
          <a:blip r:embed="rId1"/>
          <a:srcRect l="0" t="3030" r="0" b="0"/>
          <a:stretch/>
        </p:blipFill>
        <p:spPr>
          <a:xfrm>
            <a:off x="762120" y="419040"/>
            <a:ext cx="7619760" cy="3657600"/>
          </a:xfrm>
          <a:prstGeom prst="rect">
            <a:avLst/>
          </a:prstGeom>
          <a:ln w="0">
            <a:noFill/>
          </a:ln>
        </p:spPr>
      </p:pic>
      <p:pic>
        <p:nvPicPr>
          <p:cNvPr id="389" name="" descr=""/>
          <p:cNvPicPr/>
          <p:nvPr/>
        </p:nvPicPr>
        <p:blipFill>
          <a:blip r:embed="rId2"/>
          <a:srcRect l="0" t="2810" r="0" b="0"/>
          <a:stretch/>
        </p:blipFill>
        <p:spPr>
          <a:xfrm>
            <a:off x="762120" y="3448080"/>
            <a:ext cx="7619760" cy="3295800"/>
          </a:xfrm>
          <a:prstGeom prst="rect">
            <a:avLst/>
          </a:prstGeom>
          <a:ln w="0">
            <a:noFill/>
          </a:ln>
        </p:spPr>
      </p:pic>
      <p:sp>
        <p:nvSpPr>
          <p:cNvPr id="390" name=""/>
          <p:cNvSpPr/>
          <p:nvPr/>
        </p:nvSpPr>
        <p:spPr>
          <a:xfrm>
            <a:off x="152280" y="152280"/>
            <a:ext cx="8915400" cy="6629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943600" y="38088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f3fbd"/>
                </a:solidFill>
                <a:latin typeface="Arial"/>
              </a:rPr>
              <a:t>REINSTAL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152280" y="152280"/>
            <a:ext cx="8915400" cy="6629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324480" y="530208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f3fbd"/>
                </a:solidFill>
                <a:latin typeface="Arial"/>
              </a:rPr>
              <a:t>UPGRAD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81a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7010280" y="838080"/>
            <a:ext cx="1738440" cy="18273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52280" y="152280"/>
            <a:ext cx="8915400" cy="6629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33520" y="1523880"/>
            <a:ext cx="8305560" cy="38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achine his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nline breakdown requisi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eventive maintenance planning and schedu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ares and inventory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ault analysis Knowledge Based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457200"/>
            <a:ext cx="624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roject Goa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1647720" y="1238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5" name=""/>
          <p:cNvGraphicFramePr/>
          <p:nvPr/>
        </p:nvGraphicFramePr>
        <p:xfrm>
          <a:off x="609480" y="152280"/>
          <a:ext cx="6934320" cy="396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52280"/>
                    <a:ext cx="693432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7" name=""/>
          <p:cNvSpPr/>
          <p:nvPr/>
        </p:nvSpPr>
        <p:spPr>
          <a:xfrm>
            <a:off x="1647720" y="1238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8" name=""/>
          <p:cNvGraphicFramePr/>
          <p:nvPr/>
        </p:nvGraphicFramePr>
        <p:xfrm>
          <a:off x="617400" y="3352680"/>
          <a:ext cx="6850080" cy="3467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7400" y="3352680"/>
                    <a:ext cx="6850080" cy="34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0" name=""/>
          <p:cNvSpPr/>
          <p:nvPr/>
        </p:nvSpPr>
        <p:spPr>
          <a:xfrm>
            <a:off x="6629400" y="58197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f3fbd"/>
                </a:solidFill>
                <a:latin typeface="Arial"/>
              </a:rPr>
              <a:t>BREAKDOWN MAINTEN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5791320" y="318960"/>
            <a:ext cx="1828800" cy="368280"/>
          </a:xfrm>
          <a:prstGeom prst="rect">
            <a:avLst/>
          </a:prstGeom>
          <a:solidFill>
            <a:srgbClr val="eb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f3fbd"/>
                </a:solidFill>
                <a:latin typeface="Arial"/>
              </a:rPr>
              <a:t>REQUI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6019920" y="3505320"/>
            <a:ext cx="1143000" cy="337320"/>
          </a:xfrm>
          <a:prstGeom prst="rect">
            <a:avLst/>
          </a:prstGeom>
          <a:solidFill>
            <a:srgbClr val="eb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152280" y="152280"/>
            <a:ext cx="8915400" cy="6629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" descr=""/>
          <p:cNvPicPr/>
          <p:nvPr/>
        </p:nvPicPr>
        <p:blipFill>
          <a:blip r:embed="rId1"/>
          <a:stretch/>
        </p:blipFill>
        <p:spPr>
          <a:xfrm>
            <a:off x="685800" y="3276720"/>
            <a:ext cx="6553080" cy="3429000"/>
          </a:xfrm>
          <a:prstGeom prst="rect">
            <a:avLst/>
          </a:prstGeom>
          <a:ln w="0">
            <a:noFill/>
          </a:ln>
        </p:spPr>
      </p:pic>
      <p:sp>
        <p:nvSpPr>
          <p:cNvPr id="405" name=""/>
          <p:cNvSpPr/>
          <p:nvPr/>
        </p:nvSpPr>
        <p:spPr>
          <a:xfrm>
            <a:off x="1647720" y="1238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1647720" y="1238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1704960" y="1281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704960" y="1281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7086600" y="3076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f3fbd"/>
                </a:solidFill>
                <a:latin typeface="Arial"/>
              </a:rPr>
              <a:t>PREVENTIVE MAINTEN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152280" y="152280"/>
            <a:ext cx="8915400" cy="6629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" descr=""/>
          <p:cNvPicPr/>
          <p:nvPr/>
        </p:nvPicPr>
        <p:blipFill>
          <a:blip r:embed="rId2"/>
          <a:stretch/>
        </p:blipFill>
        <p:spPr>
          <a:xfrm>
            <a:off x="685800" y="190440"/>
            <a:ext cx="6553080" cy="357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81a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/>
          <p:nvPr/>
        </p:nvSpPr>
        <p:spPr>
          <a:xfrm>
            <a:off x="609480" y="76212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533520" y="1600200"/>
            <a:ext cx="8001000" cy="48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STALLATION, REINSTALLATION, UPGRADATION, RETROFITT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REAKDOWN REQUISITIONS, BREAKDOWN ACTIVITI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EVENTIVE PLAN AND PREVENTIVE SCHEDU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CHINE HIS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REAKDOWN HISTORY   - YEAR WISE AND MONTH WI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EVENTIVE HISTORY   -   YEARWISE AND MONTHWI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AILURE ANALYSIS KNOWLEDGE BA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152280" y="152280"/>
            <a:ext cx="8915400" cy="6629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5" name="" descr=""/>
          <p:cNvPicPr/>
          <p:nvPr/>
        </p:nvPicPr>
        <p:blipFill>
          <a:blip r:embed="rId1"/>
          <a:stretch/>
        </p:blipFill>
        <p:spPr>
          <a:xfrm>
            <a:off x="7315200" y="304920"/>
            <a:ext cx="118728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81a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685800" y="91440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ilest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685800" y="2165400"/>
            <a:ext cx="8458200" cy="50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trieved 265 records of machine details from l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trieved nearly 2000 spares records from  t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reakdown maintenance data for year 2003 is ente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to the data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eventive maintenance data for years 2001-2003 i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nte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52280" y="152280"/>
            <a:ext cx="8915400" cy="6629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9" name="" descr=""/>
          <p:cNvPicPr/>
          <p:nvPr/>
        </p:nvPicPr>
        <p:blipFill>
          <a:blip r:embed="rId1"/>
          <a:stretch/>
        </p:blipFill>
        <p:spPr>
          <a:xfrm>
            <a:off x="6400800" y="531720"/>
            <a:ext cx="1933560" cy="14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81a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762120" y="685800"/>
            <a:ext cx="7924680" cy="577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Benefi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8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stant access to machine history and   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machine downtim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800"/>
              </a:spcBef>
              <a:buClr>
                <a:srgbClr val="0066ff"/>
              </a:buClr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8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ailure analysis knowledge base databa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r related  problem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8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utomatic generation of control regis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800"/>
              </a:spcBef>
              <a:buClr>
                <a:srgbClr val="0066ff"/>
              </a:buClr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8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achine downtime helps to know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ture of the machi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1" name="" descr=""/>
          <p:cNvPicPr/>
          <p:nvPr/>
        </p:nvPicPr>
        <p:blipFill>
          <a:blip r:embed="rId1"/>
          <a:stretch/>
        </p:blipFill>
        <p:spPr>
          <a:xfrm>
            <a:off x="7086600" y="838080"/>
            <a:ext cx="1455840" cy="1800360"/>
          </a:xfrm>
          <a:prstGeom prst="rect">
            <a:avLst/>
          </a:prstGeom>
          <a:ln w="0">
            <a:noFill/>
          </a:ln>
        </p:spPr>
      </p:pic>
      <p:sp>
        <p:nvSpPr>
          <p:cNvPr id="422" name=""/>
          <p:cNvSpPr/>
          <p:nvPr/>
        </p:nvSpPr>
        <p:spPr>
          <a:xfrm>
            <a:off x="152280" y="152280"/>
            <a:ext cx="8915400" cy="6629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81a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/>
          <p:nvPr/>
        </p:nvSpPr>
        <p:spPr>
          <a:xfrm>
            <a:off x="152280" y="152280"/>
            <a:ext cx="8686800" cy="6400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457200" y="6858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ta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066680" y="1676520"/>
            <a:ext cx="701064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signed, Developed and Impleme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ployment of system at user’s 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ining has been provi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ystem is presently in 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6" name=""/>
          <p:cNvGraphicFramePr/>
          <p:nvPr/>
        </p:nvGraphicFramePr>
        <p:xfrm>
          <a:off x="7485120" y="457200"/>
          <a:ext cx="112536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85120" y="457200"/>
                    <a:ext cx="112536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81a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676520" y="5486400"/>
            <a:ext cx="5867280" cy="685800"/>
          </a:xfrm>
          <a:prstGeom prst="rect">
            <a:avLst/>
          </a:prstGeom>
          <a:solidFill>
            <a:srgbClr val="ffbb5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STER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M/C parameter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362320" y="3505320"/>
            <a:ext cx="4419360" cy="609480"/>
          </a:xfrm>
          <a:prstGeom prst="rect">
            <a:avLst/>
          </a:prstGeom>
          <a:solidFill>
            <a:srgbClr val="ff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REAKDOWN MAINTEN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981080" y="4343400"/>
            <a:ext cx="5257800" cy="83808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CHINE REINSTALLATION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GRADATION, RETROFIT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43200" y="2514600"/>
            <a:ext cx="3581280" cy="685800"/>
          </a:xfrm>
          <a:prstGeom prst="rect">
            <a:avLst/>
          </a:prstGeom>
          <a:solidFill>
            <a:srgbClr val="88a3d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EVENTIVE MAINTEN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505320" y="1676520"/>
            <a:ext cx="2057400" cy="53316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/C  HIS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52280" y="152280"/>
            <a:ext cx="8915400" cy="6629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4920" y="457200"/>
            <a:ext cx="495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odules in the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81a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895480" y="228600"/>
            <a:ext cx="3657600" cy="4190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MMS MENU STRU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1112400" y="1981080"/>
            <a:ext cx="18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2026800" y="1981080"/>
            <a:ext cx="18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627000" y="1981080"/>
            <a:ext cx="18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4654080" y="1981080"/>
            <a:ext cx="18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5799240" y="19810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6827400" y="1981080"/>
            <a:ext cx="18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638520" y="74304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914400"/>
            <a:ext cx="1311120" cy="307080"/>
          </a:xfrm>
          <a:prstGeom prst="rect">
            <a:avLst/>
          </a:prstGeom>
          <a:solidFill>
            <a:srgbClr val="88a3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EPOR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52280" y="1814400"/>
            <a:ext cx="1067040" cy="3900600"/>
          </a:xfrm>
          <a:prstGeom prst="rect">
            <a:avLst/>
          </a:prstGeom>
          <a:solidFill>
            <a:srgbClr val="ffbb5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LOC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BAY LOC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MACHINE TYP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M / C 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VENDOR DETAI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MACHINE LI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MAHINE CHECK LI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PA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COMMON SPA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295280" y="1814400"/>
            <a:ext cx="1371600" cy="2071800"/>
          </a:xfrm>
          <a:prstGeom prst="rect">
            <a:avLst/>
          </a:prstGeom>
          <a:solidFill>
            <a:srgbClr val="ffbb5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INSTALLATION &amp; COMMISSION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REINSTALL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UPGRAD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RETROFIT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895480" y="1814400"/>
            <a:ext cx="1067040" cy="2300400"/>
          </a:xfrm>
          <a:prstGeom prst="rect">
            <a:avLst/>
          </a:prstGeom>
          <a:solidFill>
            <a:srgbClr val="ffbb5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BREAKD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REQUISIT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BREAKD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REQUISITION LI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BREAKDOW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FAILURE ANALYSIS 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457880" y="1814400"/>
            <a:ext cx="1028520" cy="914400"/>
          </a:xfrm>
          <a:prstGeom prst="rect">
            <a:avLst/>
          </a:prstGeom>
          <a:solidFill>
            <a:srgbClr val="ffbb5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PREVENTIVE PO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PREVENTIVE P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867280" y="1814400"/>
            <a:ext cx="1295640" cy="1486080"/>
          </a:xfrm>
          <a:prstGeom prst="rect">
            <a:avLst/>
          </a:prstGeom>
          <a:solidFill>
            <a:srgbClr val="ffbb5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MACHINE HIST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BREAKDOWN HIST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PREVENTIVE HIST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353360" y="1814400"/>
            <a:ext cx="1104840" cy="1538280"/>
          </a:xfrm>
          <a:prstGeom prst="rect">
            <a:avLst/>
          </a:prstGeom>
          <a:solidFill>
            <a:srgbClr val="ffbb5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CONTROL REGIS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BREAKDOW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PREV.P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PREV.CH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82440" y="914400"/>
            <a:ext cx="1136880" cy="307080"/>
          </a:xfrm>
          <a:prstGeom prst="rect">
            <a:avLst/>
          </a:prstGeom>
          <a:solidFill>
            <a:srgbClr val="88a3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143000" y="914400"/>
            <a:ext cx="1311120" cy="307080"/>
          </a:xfrm>
          <a:prstGeom prst="rect">
            <a:avLst/>
          </a:prstGeom>
          <a:solidFill>
            <a:srgbClr val="88a3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MACH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38280" y="914400"/>
            <a:ext cx="1752840" cy="307080"/>
          </a:xfrm>
          <a:prstGeom prst="rect">
            <a:avLst/>
          </a:prstGeom>
          <a:solidFill>
            <a:srgbClr val="88a3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BREAKDOW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191120" y="914400"/>
            <a:ext cx="1752480" cy="307080"/>
          </a:xfrm>
          <a:prstGeom prst="rect">
            <a:avLst/>
          </a:prstGeom>
          <a:solidFill>
            <a:srgbClr val="88a3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REVEN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943600" y="914400"/>
            <a:ext cx="1219320" cy="307080"/>
          </a:xfrm>
          <a:prstGeom prst="rect">
            <a:avLst/>
          </a:prstGeom>
          <a:solidFill>
            <a:srgbClr val="88a3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HIS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458200" y="914400"/>
            <a:ext cx="685800" cy="307080"/>
          </a:xfrm>
          <a:prstGeom prst="rect">
            <a:avLst/>
          </a:prstGeom>
          <a:solidFill>
            <a:srgbClr val="88a3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X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09480" y="1204920"/>
            <a:ext cx="0" cy="547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752480" y="1204920"/>
            <a:ext cx="0" cy="547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76720" y="1204920"/>
            <a:ext cx="0" cy="547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724280" y="1204920"/>
            <a:ext cx="0" cy="547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477120" y="1204920"/>
            <a:ext cx="0" cy="547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848720" y="1204920"/>
            <a:ext cx="0" cy="547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320" y="152280"/>
            <a:ext cx="9018360" cy="6629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81a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52280" y="152280"/>
            <a:ext cx="8915400" cy="6629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920" y="1219320"/>
            <a:ext cx="8229600" cy="456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line Requisition, action, breakdown requisition li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pares and inventory manage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chine histo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chine downtime calcul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ault analysis knowledge based syst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curement Pla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k sched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lemented security  by assigning roles to us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80880" y="457200"/>
            <a:ext cx="701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Features impleme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81a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5867280" y="2895480"/>
            <a:ext cx="1067040" cy="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543800" y="3048120"/>
            <a:ext cx="0" cy="6094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956600" y="228600"/>
            <a:ext cx="478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NK OF ACTIVITIES IN CMM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90920" y="1066680"/>
            <a:ext cx="3504960" cy="53352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CHINE PARAME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2133720"/>
            <a:ext cx="2133720" cy="20574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STAL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INSTAL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GRAD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TROFIT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29000" y="2590920"/>
            <a:ext cx="2438280" cy="53316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PARES INVEN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5943600"/>
            <a:ext cx="2438280" cy="53352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AM DETAI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886200" y="3352680"/>
            <a:ext cx="1523880" cy="8384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ND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TAI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828800" y="4800600"/>
            <a:ext cx="2438280" cy="53352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ORK SCHED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324480" y="2286000"/>
            <a:ext cx="2667240" cy="9144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EVENTIVE MA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REAKDOWN MA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819520" y="5334120"/>
            <a:ext cx="0" cy="6094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743200" y="3809880"/>
            <a:ext cx="0" cy="9907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362320" y="380988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324480" y="3657600"/>
            <a:ext cx="2667240" cy="99072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CUREMENT P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MAND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629400" y="5334120"/>
            <a:ext cx="1905120" cy="6858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UDG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24480" y="4114800"/>
            <a:ext cx="2667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28600" y="3733920"/>
            <a:ext cx="21337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" y="3200400"/>
            <a:ext cx="21337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28600" y="2590920"/>
            <a:ext cx="21337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324480" y="2743200"/>
            <a:ext cx="2667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467480" y="1295280"/>
            <a:ext cx="0" cy="9907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095880" y="1295280"/>
            <a:ext cx="1371600" cy="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81080" y="1295280"/>
            <a:ext cx="60984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981080" y="1295280"/>
            <a:ext cx="0" cy="838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543800" y="4724280"/>
            <a:ext cx="0" cy="6098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362320" y="2895480"/>
            <a:ext cx="106668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362320" y="3581280"/>
            <a:ext cx="152388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410080" y="3505320"/>
            <a:ext cx="2057400" cy="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43400" y="1498680"/>
            <a:ext cx="111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EQUI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413440" y="3036960"/>
            <a:ext cx="111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EQUI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499040" y="4255920"/>
            <a:ext cx="111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EQUI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063240" y="5398920"/>
            <a:ext cx="1029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UPDA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594920" y="1650960"/>
            <a:ext cx="111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EQUI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529720" y="2427120"/>
            <a:ext cx="1029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UPDA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90160" y="3251160"/>
            <a:ext cx="111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EQUI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375960" y="4789440"/>
            <a:ext cx="111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EQUI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324040" y="2274840"/>
            <a:ext cx="1029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UPDA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1600200"/>
            <a:ext cx="0" cy="60948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581280" y="1905120"/>
            <a:ext cx="1524240" cy="3808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IS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029200" y="2057400"/>
            <a:ext cx="19051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934320" y="2057400"/>
            <a:ext cx="0" cy="2286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699440" y="1650960"/>
            <a:ext cx="111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EQUI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52280" y="152280"/>
            <a:ext cx="8915400" cy="6629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81a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685800" y="45720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ff"/>
                </a:solidFill>
                <a:latin typeface="Arial"/>
              </a:rPr>
              <a:t>NEW INSTAL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95280" y="990720"/>
            <a:ext cx="78487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chine type,  Category, Make, Model, Status,  Procurement detai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ocation details,  Installation dates,  Electronics Details, Feed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tails,  Mechanical Details, CNC Details, Oil Detai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85800" y="228600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ff"/>
                </a:solidFill>
                <a:latin typeface="Arial"/>
              </a:rPr>
              <a:t>RE INSTAL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295280" y="2895480"/>
            <a:ext cx="74678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hanges in Location,Bay, Sequence, Power Panel no, Operator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tai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62120" y="3733920"/>
            <a:ext cx="51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ff"/>
                </a:solidFill>
                <a:latin typeface="Arial"/>
              </a:rPr>
              <a:t>UPGRAD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219320" y="4343400"/>
            <a:ext cx="746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curement details and upgraded items, type, quanti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62120" y="4876920"/>
            <a:ext cx="51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ff"/>
                </a:solidFill>
                <a:latin typeface="Arial"/>
              </a:rPr>
              <a:t>RETRO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295280" y="5576760"/>
            <a:ext cx="746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curement details and retrofit items,  type,  quanti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52280" y="152280"/>
            <a:ext cx="8915400" cy="6629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a7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7086600" y="5334120"/>
            <a:ext cx="0" cy="38088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00280" y="1981080"/>
            <a:ext cx="0" cy="4572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800280" y="4648320"/>
            <a:ext cx="0" cy="4572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00280" y="5791320"/>
            <a:ext cx="0" cy="34272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71600" y="2971800"/>
            <a:ext cx="102888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219320" y="3886200"/>
            <a:ext cx="125712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800280" y="4114800"/>
            <a:ext cx="0" cy="34308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800280" y="3009960"/>
            <a:ext cx="0" cy="57132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838080" y="6400800"/>
            <a:ext cx="0" cy="3049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3962520" y="1600200"/>
            <a:ext cx="0" cy="51436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838080" y="6743880"/>
            <a:ext cx="312444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238880" y="2171880"/>
            <a:ext cx="0" cy="57132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334120" y="2590920"/>
            <a:ext cx="0" cy="6858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054760" y="3797280"/>
            <a:ext cx="0" cy="6858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238880" y="3124080"/>
            <a:ext cx="0" cy="57168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238880" y="4229280"/>
            <a:ext cx="0" cy="4572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638680" y="2171880"/>
            <a:ext cx="16002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91040" y="5562720"/>
            <a:ext cx="0" cy="4572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562720" y="4971960"/>
            <a:ext cx="7617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305400" y="2971800"/>
            <a:ext cx="495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943600" y="5181480"/>
            <a:ext cx="571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Y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962520" y="1600200"/>
            <a:ext cx="13716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334120" y="160020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324480" y="2971800"/>
            <a:ext cx="0" cy="19810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8610480" y="3962520"/>
            <a:ext cx="0" cy="83808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8381880" y="3962520"/>
            <a:ext cx="2286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14480" y="2514600"/>
            <a:ext cx="1828800" cy="800280"/>
          </a:xfrm>
          <a:prstGeom prst="rect">
            <a:avLst/>
          </a:prstGeom>
          <a:solidFill>
            <a:srgbClr val="f5f5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2a7e"/>
                </a:solidFill>
                <a:latin typeface="Arial"/>
              </a:rPr>
              <a:t>RECORD IN CONTROL REGISTER &amp; ALLOT CONTROL NU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28600" y="304920"/>
            <a:ext cx="1371600" cy="799920"/>
          </a:xfrm>
          <a:prstGeom prst="flowChartDocument">
            <a:avLst/>
          </a:prstGeom>
          <a:solidFill>
            <a:srgbClr val="f5f5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2a7e"/>
                </a:solidFill>
                <a:latin typeface="Arial"/>
              </a:rPr>
              <a:t>MAINTEN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2a7e"/>
                </a:solidFill>
                <a:latin typeface="Arial"/>
              </a:rPr>
              <a:t>SER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2a7e"/>
                </a:solidFill>
                <a:latin typeface="Arial"/>
              </a:rPr>
              <a:t>REQUI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38280" y="2743200"/>
            <a:ext cx="1143000" cy="571680"/>
          </a:xfrm>
          <a:prstGeom prst="flowChartDocument">
            <a:avLst/>
          </a:prstGeom>
          <a:solidFill>
            <a:srgbClr val="f5f5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2a7e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002a7e"/>
                </a:solidFill>
                <a:latin typeface="Arial"/>
              </a:rPr>
              <a:t>CONT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2a7e"/>
                </a:solidFill>
                <a:latin typeface="Arial"/>
              </a:rPr>
              <a:t>REGI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514600" y="3657600"/>
            <a:ext cx="1257480" cy="685800"/>
          </a:xfrm>
          <a:prstGeom prst="flowChartDocument">
            <a:avLst/>
          </a:prstGeom>
          <a:solidFill>
            <a:srgbClr val="f5f5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2a7e"/>
                </a:solidFill>
                <a:latin typeface="Arial"/>
              </a:rPr>
              <a:t>1. CONT.RE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629400" y="4724280"/>
            <a:ext cx="1028880" cy="685800"/>
          </a:xfrm>
          <a:prstGeom prst="rect">
            <a:avLst/>
          </a:prstGeom>
          <a:solidFill>
            <a:srgbClr val="f5f5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2a7e"/>
                </a:solidFill>
                <a:latin typeface="Arial"/>
              </a:rPr>
              <a:t>HAND O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2a7e"/>
                </a:solidFill>
                <a:latin typeface="Arial"/>
              </a:rPr>
              <a:t>REPAI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2a7e"/>
                </a:solidFill>
                <a:latin typeface="Arial"/>
              </a:rPr>
              <a:t>MACHI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6019920"/>
            <a:ext cx="1371600" cy="571320"/>
          </a:xfrm>
          <a:prstGeom prst="rect">
            <a:avLst/>
          </a:prstGeom>
          <a:solidFill>
            <a:srgbClr val="f5f5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2a7e"/>
                </a:solidFill>
                <a:latin typeface="Arial"/>
              </a:rPr>
              <a:t>CONDEM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2a7e"/>
                </a:solidFill>
                <a:latin typeface="Arial"/>
              </a:rPr>
              <a:t>THE MACHI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848720" y="4800600"/>
            <a:ext cx="1143000" cy="1066680"/>
          </a:xfrm>
          <a:prstGeom prst="flowChartDocument">
            <a:avLst/>
          </a:prstGeom>
          <a:solidFill>
            <a:srgbClr val="f5f5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2a7e"/>
                </a:solidFill>
                <a:latin typeface="Arial"/>
              </a:rPr>
              <a:t>1.CONT.REG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2a7e"/>
                </a:solidFill>
                <a:latin typeface="Arial"/>
              </a:rPr>
              <a:t>2.M.S.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2a7e"/>
                </a:solidFill>
                <a:latin typeface="Arial"/>
              </a:rPr>
              <a:t>3.BREAKDOW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2a7e"/>
                </a:solidFill>
                <a:latin typeface="Arial"/>
              </a:rPr>
              <a:t>4.HISTORY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2a7e"/>
                </a:solidFill>
                <a:latin typeface="Arial"/>
              </a:rPr>
              <a:t>    </a:t>
            </a:r>
            <a:r>
              <a:rPr b="1" lang="en-US" sz="1000" spc="-1" strike="noStrike">
                <a:solidFill>
                  <a:srgbClr val="002a7e"/>
                </a:solidFill>
                <a:latin typeface="Arial"/>
              </a:rPr>
              <a:t>CAR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905120" y="30492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LE OF CMMS S/W IN BREAKDOWN MAINTENANCE     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62120" y="1143000"/>
            <a:ext cx="0" cy="53352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62120" y="1143000"/>
            <a:ext cx="0" cy="533520"/>
          </a:xfrm>
          <a:prstGeom prst="line">
            <a:avLst/>
          </a:prstGeom>
          <a:ln w="28440">
            <a:solidFill>
              <a:srgbClr val="43db5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28600" y="304920"/>
            <a:ext cx="1447920" cy="914400"/>
          </a:xfrm>
          <a:prstGeom prst="flowChartDocument">
            <a:avLst/>
          </a:prstGeom>
          <a:solidFill>
            <a:srgbClr val="43db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1ee6c"/>
                </a:solidFill>
                <a:latin typeface="Arial"/>
              </a:rPr>
              <a:t>ONLINE</a:t>
            </a:r>
            <a:r>
              <a:rPr b="1" lang="en-US" sz="1200" spc="-1" strike="noStrike">
                <a:solidFill>
                  <a:srgbClr val="002a7e"/>
                </a:solidFill>
                <a:latin typeface="Arial"/>
              </a:rPr>
              <a:t> MAINTEN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2a7e"/>
                </a:solidFill>
                <a:latin typeface="Arial"/>
              </a:rPr>
              <a:t>SER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2a7e"/>
                </a:solidFill>
                <a:latin typeface="Arial"/>
              </a:rPr>
              <a:t>REQUI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295280" y="1981080"/>
            <a:ext cx="762120" cy="0"/>
          </a:xfrm>
          <a:prstGeom prst="line">
            <a:avLst/>
          </a:prstGeom>
          <a:ln w="28440">
            <a:solidFill>
              <a:srgbClr val="43db5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057400" y="1752480"/>
            <a:ext cx="1486080" cy="457200"/>
          </a:xfrm>
          <a:prstGeom prst="rect">
            <a:avLst/>
          </a:prstGeom>
          <a:solidFill>
            <a:srgbClr val="43db5c"/>
          </a:solidFill>
          <a:ln w="9360">
            <a:solidFill>
              <a:srgbClr val="43db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2a7e"/>
                </a:solidFill>
                <a:latin typeface="Arial"/>
              </a:rPr>
              <a:t>    </a:t>
            </a:r>
            <a:r>
              <a:rPr b="1" lang="en-US" sz="1200" spc="-1" strike="noStrike">
                <a:solidFill>
                  <a:srgbClr val="002a7e"/>
                </a:solidFill>
                <a:latin typeface="Arial"/>
              </a:rPr>
              <a:t>M/C STATUS 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2a7e"/>
                </a:solidFill>
                <a:latin typeface="Arial"/>
              </a:rPr>
              <a:t>    </a:t>
            </a:r>
            <a:r>
              <a:rPr b="1" lang="en-US" sz="1200" spc="-1" strike="noStrike">
                <a:solidFill>
                  <a:srgbClr val="002a7e"/>
                </a:solidFill>
                <a:latin typeface="Arial"/>
              </a:rPr>
              <a:t>BREAKD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00280" y="2000160"/>
            <a:ext cx="0" cy="457200"/>
          </a:xfrm>
          <a:prstGeom prst="line">
            <a:avLst/>
          </a:prstGeom>
          <a:ln w="28440">
            <a:solidFill>
              <a:srgbClr val="43db5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1714680"/>
            <a:ext cx="1257480" cy="457200"/>
          </a:xfrm>
          <a:prstGeom prst="rect">
            <a:avLst/>
          </a:prstGeom>
          <a:solidFill>
            <a:srgbClr val="f5f5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2a7e"/>
                </a:solidFill>
                <a:latin typeface="Arial"/>
              </a:rPr>
              <a:t>    </a:t>
            </a:r>
            <a:r>
              <a:rPr b="1" lang="en-US" sz="1200" spc="-1" strike="noStrike">
                <a:solidFill>
                  <a:srgbClr val="002a7e"/>
                </a:solidFill>
                <a:latin typeface="Arial"/>
              </a:rPr>
              <a:t>RECE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2a7e"/>
                </a:solidFill>
                <a:latin typeface="Arial"/>
              </a:rPr>
              <a:t>REQUI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8160" y="2438280"/>
            <a:ext cx="3733920" cy="990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057400" y="914400"/>
            <a:ext cx="1981080" cy="533520"/>
          </a:xfrm>
          <a:prstGeom prst="rect">
            <a:avLst/>
          </a:prstGeom>
          <a:solidFill>
            <a:srgbClr val="ff3300"/>
          </a:solidFill>
          <a:ln w="9360">
            <a:solidFill>
              <a:srgbClr val="43db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NOT AVAILABLE FOR SCHEDU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2895480" y="1447920"/>
            <a:ext cx="0" cy="304560"/>
          </a:xfrm>
          <a:prstGeom prst="line">
            <a:avLst/>
          </a:prstGeom>
          <a:ln w="28440">
            <a:solidFill>
              <a:srgbClr val="43db5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105520" y="5562720"/>
            <a:ext cx="571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800280" y="3029040"/>
            <a:ext cx="0" cy="571320"/>
          </a:xfrm>
          <a:prstGeom prst="line">
            <a:avLst/>
          </a:prstGeom>
          <a:ln w="28440">
            <a:solidFill>
              <a:srgbClr val="43db5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7240" y="2476440"/>
            <a:ext cx="3752640" cy="933480"/>
          </a:xfrm>
          <a:prstGeom prst="rect">
            <a:avLst/>
          </a:prstGeom>
          <a:solidFill>
            <a:srgbClr val="43db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HE SOFTWARE GENERATES CONTROL NO AUTOMATICALLY AND DETAILS ARE ENTERED INTO THE DATA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514600" y="3505320"/>
            <a:ext cx="1295280" cy="1371600"/>
          </a:xfrm>
          <a:prstGeom prst="can">
            <a:avLst>
              <a:gd name="adj" fmla="val 25000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AUL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NOWLE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ASED D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219320" y="3886200"/>
            <a:ext cx="1257120" cy="0"/>
          </a:xfrm>
          <a:prstGeom prst="line">
            <a:avLst/>
          </a:prstGeom>
          <a:ln w="28440">
            <a:solidFill>
              <a:srgbClr val="43db5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800280" y="4133880"/>
            <a:ext cx="0" cy="342720"/>
          </a:xfrm>
          <a:prstGeom prst="line">
            <a:avLst/>
          </a:prstGeom>
          <a:ln w="28440">
            <a:solidFill>
              <a:srgbClr val="43db5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209680" y="5029200"/>
            <a:ext cx="1447920" cy="457200"/>
          </a:xfrm>
          <a:prstGeom prst="rect">
            <a:avLst/>
          </a:prstGeom>
          <a:solidFill>
            <a:srgbClr val="43db5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ASK TEA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4724280"/>
            <a:ext cx="685800" cy="304920"/>
          </a:xfrm>
          <a:prstGeom prst="line">
            <a:avLst/>
          </a:prstGeom>
          <a:ln w="28440">
            <a:solidFill>
              <a:srgbClr val="43db5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095880" y="762120"/>
            <a:ext cx="1828800" cy="457200"/>
          </a:xfrm>
          <a:prstGeom prst="rect">
            <a:avLst/>
          </a:prstGeom>
          <a:solidFill>
            <a:srgbClr val="43db5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MACHINE / COMM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PARES LOOK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H="1" rot="2643600">
            <a:off x="5942880" y="1142640"/>
            <a:ext cx="380880" cy="881280"/>
          </a:xfrm>
          <a:prstGeom prst="upArrow">
            <a:avLst>
              <a:gd name="adj1" fmla="val 28963"/>
              <a:gd name="adj2" fmla="val 169067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800280" y="1600200"/>
            <a:ext cx="4533840" cy="5143680"/>
            <a:chOff x="800280" y="1600200"/>
            <a:chExt cx="4533840" cy="5143680"/>
          </a:xfrm>
        </p:grpSpPr>
        <p:sp>
          <p:nvSpPr>
            <p:cNvPr id="196" name=""/>
            <p:cNvSpPr/>
            <p:nvPr/>
          </p:nvSpPr>
          <p:spPr>
            <a:xfrm>
              <a:off x="800280" y="4667400"/>
              <a:ext cx="0" cy="438120"/>
            </a:xfrm>
            <a:prstGeom prst="line">
              <a:avLst/>
            </a:prstGeom>
            <a:ln w="28440">
              <a:solidFill>
                <a:srgbClr val="43db5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800280" y="5676840"/>
              <a:ext cx="0" cy="438120"/>
            </a:xfrm>
            <a:prstGeom prst="line">
              <a:avLst/>
            </a:prstGeom>
            <a:ln w="28440">
              <a:solidFill>
                <a:srgbClr val="43db5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838080" y="6400800"/>
              <a:ext cx="0" cy="304920"/>
            </a:xfrm>
            <a:prstGeom prst="line">
              <a:avLst/>
            </a:prstGeom>
            <a:ln w="28440">
              <a:solidFill>
                <a:srgbClr val="43db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838080" y="6743880"/>
              <a:ext cx="3124440" cy="0"/>
            </a:xfrm>
            <a:prstGeom prst="line">
              <a:avLst/>
            </a:prstGeom>
            <a:ln w="28440">
              <a:solidFill>
                <a:srgbClr val="43db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V="1">
              <a:off x="3962520" y="1600200"/>
              <a:ext cx="0" cy="5143680"/>
            </a:xfrm>
            <a:prstGeom prst="line">
              <a:avLst/>
            </a:prstGeom>
            <a:ln w="28440">
              <a:solidFill>
                <a:srgbClr val="43db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962520" y="1600200"/>
              <a:ext cx="1371600" cy="0"/>
            </a:xfrm>
            <a:prstGeom prst="line">
              <a:avLst/>
            </a:prstGeom>
            <a:ln w="28440">
              <a:solidFill>
                <a:srgbClr val="43db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334120" y="1600200"/>
              <a:ext cx="0" cy="152280"/>
            </a:xfrm>
            <a:prstGeom prst="line">
              <a:avLst/>
            </a:prstGeom>
            <a:ln w="28440">
              <a:solidFill>
                <a:srgbClr val="43db5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3" name=""/>
          <p:cNvSpPr/>
          <p:nvPr/>
        </p:nvSpPr>
        <p:spPr>
          <a:xfrm>
            <a:off x="228600" y="4495680"/>
            <a:ext cx="1257480" cy="343080"/>
          </a:xfrm>
          <a:prstGeom prst="rect">
            <a:avLst/>
          </a:prstGeom>
          <a:solidFill>
            <a:srgbClr val="f5f5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2a7e"/>
                </a:solidFill>
                <a:latin typeface="Arial"/>
              </a:rPr>
              <a:t>ALLOT 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" y="5105520"/>
            <a:ext cx="1371600" cy="685800"/>
          </a:xfrm>
          <a:prstGeom prst="rect">
            <a:avLst/>
          </a:prstGeom>
          <a:solidFill>
            <a:srgbClr val="f5f5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2a7e"/>
                </a:solidFill>
                <a:latin typeface="Arial"/>
              </a:rPr>
              <a:t>   </a:t>
            </a:r>
            <a:r>
              <a:rPr b="1" lang="en-US" sz="1200" spc="-1" strike="noStrike">
                <a:solidFill>
                  <a:srgbClr val="002a7e"/>
                </a:solidFill>
                <a:latin typeface="Arial"/>
              </a:rPr>
              <a:t>CARRY OUT PRELIMINARY    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2a7e"/>
                </a:solidFill>
                <a:latin typeface="Arial"/>
              </a:rPr>
              <a:t>     </a:t>
            </a:r>
            <a:r>
              <a:rPr b="1" lang="en-US" sz="1200" spc="-1" strike="noStrike">
                <a:solidFill>
                  <a:srgbClr val="002a7e"/>
                </a:solidFill>
                <a:latin typeface="Arial"/>
              </a:rPr>
              <a:t>CHEC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52280" y="6095880"/>
            <a:ext cx="1371600" cy="457200"/>
          </a:xfrm>
          <a:prstGeom prst="rect">
            <a:avLst/>
          </a:prstGeom>
          <a:solidFill>
            <a:srgbClr val="f5f5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2a7e"/>
                </a:solidFill>
                <a:latin typeface="Arial"/>
              </a:rPr>
              <a:t>         </a:t>
            </a:r>
            <a:r>
              <a:rPr b="1" lang="en-US" sz="1200" spc="-1" strike="noStrike">
                <a:solidFill>
                  <a:srgbClr val="002a7e"/>
                </a:solidFill>
                <a:latin typeface="Arial"/>
              </a:rPr>
              <a:t>ASS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2a7e"/>
                </a:solidFill>
                <a:latin typeface="Arial"/>
              </a:rPr>
              <a:t>    </a:t>
            </a:r>
            <a:r>
              <a:rPr b="1" lang="en-US" sz="1200" spc="-1" strike="noStrike">
                <a:solidFill>
                  <a:srgbClr val="002a7e"/>
                </a:solidFill>
                <a:latin typeface="Arial"/>
              </a:rPr>
              <a:t>COMPLEX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14480" y="3619440"/>
            <a:ext cx="1638000" cy="495360"/>
          </a:xfrm>
          <a:prstGeom prst="rect">
            <a:avLst/>
          </a:prstGeom>
          <a:solidFill>
            <a:srgbClr val="f5f5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2a7e"/>
                </a:solidFill>
                <a:latin typeface="Arial"/>
              </a:rPr>
              <a:t>STUDY PROBL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010280" y="1371600"/>
            <a:ext cx="1828800" cy="457200"/>
          </a:xfrm>
          <a:prstGeom prst="rect">
            <a:avLst/>
          </a:prstGeom>
          <a:solidFill>
            <a:srgbClr val="43db5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REAKDOWN SPA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34120" y="2590920"/>
            <a:ext cx="0" cy="685800"/>
          </a:xfrm>
          <a:prstGeom prst="line">
            <a:avLst/>
          </a:prstGeom>
          <a:ln w="28440">
            <a:solidFill>
              <a:srgbClr val="43db5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5638680" y="2171880"/>
            <a:ext cx="1600200" cy="571320"/>
            <a:chOff x="5638680" y="2171880"/>
            <a:chExt cx="1600200" cy="571320"/>
          </a:xfrm>
        </p:grpSpPr>
        <p:sp>
          <p:nvSpPr>
            <p:cNvPr id="210" name=""/>
            <p:cNvSpPr/>
            <p:nvPr/>
          </p:nvSpPr>
          <p:spPr>
            <a:xfrm>
              <a:off x="7238880" y="2171880"/>
              <a:ext cx="0" cy="571320"/>
            </a:xfrm>
            <a:prstGeom prst="line">
              <a:avLst/>
            </a:prstGeom>
            <a:ln w="28440">
              <a:solidFill>
                <a:srgbClr val="43db5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638680" y="2171880"/>
              <a:ext cx="1600200" cy="0"/>
            </a:xfrm>
            <a:prstGeom prst="line">
              <a:avLst/>
            </a:prstGeom>
            <a:ln w="28440">
              <a:solidFill>
                <a:srgbClr val="43db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4305240" y="1743120"/>
            <a:ext cx="2057400" cy="914400"/>
          </a:xfrm>
          <a:prstGeom prst="flowChartDecision">
            <a:avLst/>
          </a:prstGeom>
          <a:solidFill>
            <a:srgbClr val="f5f5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2a7e"/>
                </a:solidFill>
                <a:latin typeface="Arial"/>
              </a:rPr>
              <a:t>IN HOU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2a7e"/>
                </a:solidFill>
                <a:latin typeface="Arial"/>
              </a:rPr>
              <a:t>COMPLIANCESPA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flipH="1" rot="2890200">
            <a:off x="6379200" y="1419480"/>
            <a:ext cx="317520" cy="2134080"/>
          </a:xfrm>
          <a:prstGeom prst="upArrow">
            <a:avLst>
              <a:gd name="adj1" fmla="val 35435"/>
              <a:gd name="adj2" fmla="val 152998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553080" y="3733920"/>
            <a:ext cx="1828800" cy="457200"/>
          </a:xfrm>
          <a:prstGeom prst="rect">
            <a:avLst/>
          </a:prstGeom>
          <a:solidFill>
            <a:srgbClr val="f5f5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2a7e"/>
                </a:solidFill>
                <a:latin typeface="Arial"/>
              </a:rPr>
              <a:t>RECORD WORK AND REASON FOR FAIL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477120" y="3505320"/>
            <a:ext cx="2590560" cy="914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772400" y="4419720"/>
            <a:ext cx="1295280" cy="2133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4991040" y="2971800"/>
            <a:ext cx="2247840" cy="3060720"/>
            <a:chOff x="4991040" y="2971800"/>
            <a:chExt cx="2247840" cy="3060720"/>
          </a:xfrm>
        </p:grpSpPr>
        <p:grpSp>
          <p:nvGrpSpPr>
            <p:cNvPr id="218" name=""/>
            <p:cNvGrpSpPr/>
            <p:nvPr/>
          </p:nvGrpSpPr>
          <p:grpSpPr>
            <a:xfrm>
              <a:off x="5562720" y="2971800"/>
              <a:ext cx="1676160" cy="2000160"/>
              <a:chOff x="5562720" y="2971800"/>
              <a:chExt cx="1676160" cy="2000160"/>
            </a:xfrm>
          </p:grpSpPr>
          <p:sp>
            <p:nvSpPr>
              <p:cNvPr id="219" name=""/>
              <p:cNvSpPr/>
              <p:nvPr/>
            </p:nvSpPr>
            <p:spPr>
              <a:xfrm>
                <a:off x="7238880" y="3124080"/>
                <a:ext cx="0" cy="570960"/>
              </a:xfrm>
              <a:prstGeom prst="line">
                <a:avLst/>
              </a:prstGeom>
              <a:ln w="28440">
                <a:solidFill>
                  <a:srgbClr val="43db5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7238880" y="4228920"/>
                <a:ext cx="0" cy="456840"/>
              </a:xfrm>
              <a:prstGeom prst="line">
                <a:avLst/>
              </a:prstGeom>
              <a:ln w="28440">
                <a:solidFill>
                  <a:srgbClr val="43db5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5562720" y="4971960"/>
                <a:ext cx="761760" cy="0"/>
              </a:xfrm>
              <a:prstGeom prst="line">
                <a:avLst/>
              </a:prstGeom>
              <a:ln w="28440">
                <a:solidFill>
                  <a:srgbClr val="43db5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6305400" y="2971800"/>
                <a:ext cx="495000" cy="0"/>
              </a:xfrm>
              <a:prstGeom prst="line">
                <a:avLst/>
              </a:prstGeom>
              <a:ln w="9360">
                <a:solidFill>
                  <a:srgbClr val="43db5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6324480" y="2971800"/>
                <a:ext cx="0" cy="1981080"/>
              </a:xfrm>
              <a:prstGeom prst="line">
                <a:avLst/>
              </a:prstGeom>
              <a:ln w="28440">
                <a:solidFill>
                  <a:srgbClr val="43db5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4" name=""/>
            <p:cNvSpPr/>
            <p:nvPr/>
          </p:nvSpPr>
          <p:spPr>
            <a:xfrm>
              <a:off x="4991040" y="5575320"/>
              <a:ext cx="0" cy="457200"/>
            </a:xfrm>
            <a:prstGeom prst="line">
              <a:avLst/>
            </a:prstGeom>
            <a:ln w="28440">
              <a:solidFill>
                <a:srgbClr val="43db5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054760" y="3809880"/>
              <a:ext cx="0" cy="685800"/>
            </a:xfrm>
            <a:prstGeom prst="line">
              <a:avLst/>
            </a:prstGeom>
            <a:ln w="28440">
              <a:solidFill>
                <a:srgbClr val="43db5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6" name=""/>
          <p:cNvSpPr/>
          <p:nvPr/>
        </p:nvSpPr>
        <p:spPr>
          <a:xfrm>
            <a:off x="4114800" y="3276720"/>
            <a:ext cx="1828800" cy="914400"/>
          </a:xfrm>
          <a:prstGeom prst="rect">
            <a:avLst/>
          </a:prstGeom>
          <a:solidFill>
            <a:srgbClr val="f5f5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2a7e"/>
                </a:solidFill>
                <a:latin typeface="Arial"/>
              </a:rPr>
              <a:t>PURCHASE SPARES OUTSIDE CONTRACT/ SERVICES, UPGRADE MACHIN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962520" y="4495680"/>
            <a:ext cx="2133360" cy="1067040"/>
          </a:xfrm>
          <a:prstGeom prst="flowChartDecision">
            <a:avLst/>
          </a:prstGeom>
          <a:solidFill>
            <a:srgbClr val="f5f5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2a7e"/>
                </a:solidFill>
                <a:latin typeface="Arial"/>
              </a:rPr>
              <a:t>POSSIB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2a7e"/>
                </a:solidFill>
                <a:latin typeface="Arial"/>
              </a:rPr>
              <a:t>REPAIR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2a7e"/>
                </a:solidFill>
                <a:latin typeface="Arial"/>
              </a:rPr>
              <a:t>UPGRAD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flipH="1" rot="16114800">
            <a:off x="5029200" y="2895480"/>
            <a:ext cx="380880" cy="2819520"/>
          </a:xfrm>
          <a:prstGeom prst="upArrow">
            <a:avLst>
              <a:gd name="adj1" fmla="val 25167"/>
              <a:gd name="adj2" fmla="val 141233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781680" y="2743200"/>
            <a:ext cx="1486080" cy="457200"/>
          </a:xfrm>
          <a:prstGeom prst="rect">
            <a:avLst/>
          </a:prstGeom>
          <a:solidFill>
            <a:srgbClr val="f5f5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2a7e"/>
                </a:solidFill>
                <a:latin typeface="Arial"/>
              </a:rPr>
              <a:t>CARRY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2a7e"/>
                </a:solidFill>
                <a:latin typeface="Arial"/>
              </a:rPr>
              <a:t>REPAIR</a:t>
            </a:r>
            <a:r>
              <a:rPr b="1" lang="en-US" sz="1200" spc="-1" strike="noStrike">
                <a:solidFill>
                  <a:srgbClr val="002a7e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2a7e"/>
                </a:solidFill>
                <a:latin typeface="Arial"/>
              </a:rPr>
              <a:t>UPGRA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553080" y="3733920"/>
            <a:ext cx="1905120" cy="609480"/>
          </a:xfrm>
          <a:prstGeom prst="rect">
            <a:avLst/>
          </a:prstGeom>
          <a:solidFill>
            <a:srgbClr val="43db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ENTER RESONS FOR FAILURE AND ACTION TAK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rot="19255200">
            <a:off x="4676400" y="701640"/>
            <a:ext cx="437040" cy="5789880"/>
          </a:xfrm>
          <a:prstGeom prst="upArrow">
            <a:avLst>
              <a:gd name="adj1" fmla="val 25167"/>
              <a:gd name="adj2" fmla="val 252754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057400" y="914400"/>
            <a:ext cx="1981080" cy="533520"/>
          </a:xfrm>
          <a:prstGeom prst="rect">
            <a:avLst/>
          </a:prstGeom>
          <a:solidFill>
            <a:srgbClr val="43db5c"/>
          </a:solidFill>
          <a:ln w="9360">
            <a:solidFill>
              <a:srgbClr val="43db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TATUS = WOR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CHEDUL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934320" y="6324480"/>
            <a:ext cx="457200" cy="457200"/>
          </a:xfrm>
          <a:prstGeom prst="vertic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7162920" y="5867280"/>
            <a:ext cx="0" cy="457200"/>
          </a:xfrm>
          <a:prstGeom prst="line">
            <a:avLst/>
          </a:prstGeom>
          <a:ln w="28440">
            <a:solidFill>
              <a:srgbClr val="43db5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477120" y="5715000"/>
            <a:ext cx="1218960" cy="457200"/>
          </a:xfrm>
          <a:prstGeom prst="rect">
            <a:avLst/>
          </a:prstGeom>
          <a:solidFill>
            <a:srgbClr val="43db5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LOS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EQUI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0" y="152280"/>
            <a:ext cx="9067680" cy="6629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083 -0.03519 C 0.03455 -0.03704 0.04844 -0.03866 0.05417 -0.03519 C 0.0599 -0.03172 0.05903 -0.01875 0.05556 -0.01482 C 0.05208 -0.01088 0.03333 -0.01413 0.03333 -0.01112 C 0.03333 -0.00811 0.05434 -0.00209 0.05556 0.0037 C 0.05677 0.00949 0.04948 0.02476 0.04028 0.02407 C 0.03108 0.02337 0.01545 0.01157 5.55112E-017 4.81481E-006 E">
                                      <p:cBhvr>
                                        <p:cTn id="86" dur="2000" fill="hold"/>
                                        <p:tgtEl>
                                          <p:spTgt spid="1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81a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 flipH="1">
            <a:off x="1599840" y="1143000"/>
            <a:ext cx="125748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048120" y="1143000"/>
            <a:ext cx="125712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124080" y="2870280"/>
            <a:ext cx="182880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666880" y="3200400"/>
            <a:ext cx="0" cy="34308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638680" y="3048120"/>
            <a:ext cx="0" cy="6858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666880" y="3772080"/>
            <a:ext cx="0" cy="4572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666880" y="4673520"/>
            <a:ext cx="0" cy="34308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654280" y="5334120"/>
            <a:ext cx="0" cy="4572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276720" y="5257800"/>
            <a:ext cx="148572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692440" y="1981080"/>
            <a:ext cx="0" cy="4572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666880" y="1282680"/>
            <a:ext cx="0" cy="34308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276720" y="251460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828800" y="320040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Y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685800" y="838080"/>
            <a:ext cx="914400" cy="609840"/>
          </a:xfrm>
          <a:prstGeom prst="flowChartDocument">
            <a:avLst/>
          </a:prstGeom>
          <a:solidFill>
            <a:srgbClr val="f5f5a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I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H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343400" y="762120"/>
            <a:ext cx="1257480" cy="685800"/>
          </a:xfrm>
          <a:prstGeom prst="flowChartDocument">
            <a:avLst/>
          </a:prstGeom>
          <a:solidFill>
            <a:srgbClr val="f5f5a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INTEN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L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952880" y="2654280"/>
            <a:ext cx="1371600" cy="343080"/>
          </a:xfrm>
          <a:prstGeom prst="rect">
            <a:avLst/>
          </a:prstGeom>
          <a:solidFill>
            <a:srgbClr val="43db5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ESCHEDU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019240" y="4267080"/>
            <a:ext cx="1447920" cy="533520"/>
          </a:xfrm>
          <a:prstGeom prst="rect">
            <a:avLst/>
          </a:prstGeom>
          <a:solidFill>
            <a:srgbClr val="f5f5a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ARRY  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INTEN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057400" y="5791320"/>
            <a:ext cx="1371600" cy="609480"/>
          </a:xfrm>
          <a:prstGeom prst="rect">
            <a:avLst/>
          </a:prstGeom>
          <a:solidFill>
            <a:srgbClr val="f5f5a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AND O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CHINE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H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800600" y="3809880"/>
            <a:ext cx="1714680" cy="685800"/>
          </a:xfrm>
          <a:prstGeom prst="flowChartDocument">
            <a:avLst/>
          </a:prstGeom>
          <a:solidFill>
            <a:srgbClr val="43db5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EVI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MAINTENANCE PL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800600" y="5029200"/>
            <a:ext cx="1486080" cy="685800"/>
          </a:xfrm>
          <a:prstGeom prst="flowChartDocument">
            <a:avLst/>
          </a:prstGeom>
          <a:solidFill>
            <a:srgbClr val="43db5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1.CHECK 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.MAINT.PL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171880" y="2438280"/>
            <a:ext cx="990360" cy="914400"/>
          </a:xfrm>
          <a:prstGeom prst="flowChartDecision">
            <a:avLst/>
          </a:prstGeom>
          <a:solidFill>
            <a:srgbClr val="43db5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057400" y="3556080"/>
            <a:ext cx="1371600" cy="533160"/>
          </a:xfrm>
          <a:prstGeom prst="rect">
            <a:avLst/>
          </a:prstGeom>
          <a:solidFill>
            <a:srgbClr val="43db5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CHEDU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MAINTEN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981080" y="1638360"/>
            <a:ext cx="1486080" cy="571320"/>
          </a:xfrm>
          <a:prstGeom prst="rect">
            <a:avLst/>
          </a:prstGeom>
          <a:solidFill>
            <a:srgbClr val="f5f5a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HE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VAILA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057400" y="838080"/>
            <a:ext cx="1257480" cy="571680"/>
          </a:xfrm>
          <a:prstGeom prst="rect">
            <a:avLst/>
          </a:prstGeom>
          <a:solidFill>
            <a:srgbClr val="43db5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REP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MAINT. PL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057400" y="5029200"/>
            <a:ext cx="1371600" cy="571680"/>
          </a:xfrm>
          <a:prstGeom prst="rect">
            <a:avLst/>
          </a:prstGeom>
          <a:solidFill>
            <a:srgbClr val="43db5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ECO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DETAI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791320" y="1523880"/>
            <a:ext cx="1257120" cy="571680"/>
          </a:xfrm>
          <a:prstGeom prst="rect">
            <a:avLst/>
          </a:prstGeom>
          <a:solidFill>
            <a:srgbClr val="43db5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EVENTIVE MAINT PO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 rot="6158400">
            <a:off x="4484880" y="419040"/>
            <a:ext cx="317520" cy="2438280"/>
          </a:xfrm>
          <a:prstGeom prst="upArrow">
            <a:avLst>
              <a:gd name="adj1" fmla="val 35435"/>
              <a:gd name="adj2" fmla="val 174807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flipH="1" rot="13777200">
            <a:off x="7179840" y="972000"/>
            <a:ext cx="273240" cy="919080"/>
          </a:xfrm>
          <a:prstGeom prst="upArrow">
            <a:avLst>
              <a:gd name="adj1" fmla="val 35435"/>
              <a:gd name="adj2" fmla="val 76569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7238880" y="457200"/>
            <a:ext cx="1486080" cy="723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2a7e"/>
                </a:solidFill>
                <a:latin typeface="Arial"/>
              </a:rPr>
              <a:t>SHOP FLO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2a7e"/>
                </a:solidFill>
                <a:latin typeface="Arial"/>
              </a:rPr>
              <a:t>FEEDB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2a7e"/>
                </a:solidFill>
                <a:latin typeface="Arial"/>
              </a:rPr>
              <a:t>ON PREV MA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362640" y="6095880"/>
            <a:ext cx="571680" cy="152640"/>
          </a:xfrm>
          <a:prstGeom prst="rect">
            <a:avLst/>
          </a:prstGeom>
          <a:solidFill>
            <a:srgbClr val="43db5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934320" y="6019920"/>
            <a:ext cx="2209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OFTWARE ACTIVITY/ FACIL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362640" y="6400800"/>
            <a:ext cx="571680" cy="152280"/>
          </a:xfrm>
          <a:prstGeom prst="rect">
            <a:avLst/>
          </a:prstGeom>
          <a:solidFill>
            <a:srgbClr val="f5f5a9"/>
          </a:solidFill>
          <a:ln w="9360">
            <a:solidFill>
              <a:srgbClr val="f5f5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934320" y="6324480"/>
            <a:ext cx="176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MAINTENANCE ACTIV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52280" y="152280"/>
            <a:ext cx="8915400" cy="6629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76320" y="304920"/>
            <a:ext cx="723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LE OF CMMS S/W IN PREVENTIVE MAINTENANC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8T16:52:47Z</dcterms:created>
  <dc:creator>drdl</dc:creator>
  <dc:description/>
  <dc:language>en-US</dc:language>
  <cp:lastModifiedBy>HARI OM</cp:lastModifiedBy>
  <dcterms:modified xsi:type="dcterms:W3CDTF">2011-03-31T21:11:30Z</dcterms:modified>
  <cp:revision>159</cp:revision>
  <dc:subject/>
  <dc:title>PLANT MANAGEMENT SYSTEM </dc:title>
</cp:coreProperties>
</file>