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9B5F9-A7B5-4526-A6E5-D1183D39C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7E742-7FCB-497B-A04F-FFCD6570D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164D5-A1A4-4814-A919-3B5D6D967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7EBC3-5354-426E-A1CC-2BF5D6BE1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3C8AEB-304D-4DCF-913F-2B7189FC0F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717F6-9AF1-4AFE-95F1-189CEA6EB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D1737-7C7C-415F-9EB7-3221DC59A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386AA-EF41-431F-BE70-66AA11174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413AC-7F0D-4846-B38B-66CA145E0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D4F58-B333-4021-965A-A818F7667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FA494-B2F9-47FD-A409-87518BB43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AE3B9-B093-4CDB-8EE5-4F312155F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3B410-8E72-4C55-BCDD-81F8D52AB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055CB-C9A3-476C-87BB-C7C3D3B31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98CF4-77A3-4FC6-8C44-67468DA31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904338-0564-41C7-ADC6-F3B5ABCA98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76B874-03A5-4AF3-A151-D246BC95DB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7721E-7540-46FB-BFA3-ECFB6DE4B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475DF-32F1-42DE-B722-05906FEA7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326A4-A383-4D5B-9A19-9E4B90A43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644BB-C3CE-4BFE-874F-B233ED2D5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CD253-6181-4F6B-BEAB-D03B993E9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80242-A067-4F8E-AFFA-2B0E189A4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17FE5-2AE5-4227-A73F-FC45D30D3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44A3-37FC-43EB-917A-D9470C47FF4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BDD78-15BC-4F9C-A5C5-533420E69A5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051920" y="975600"/>
            <a:ext cx="7344720" cy="10342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irline Reservation System</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st Estimation Model</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nstructive Cost Model, also known as the COCOMO model ,has been designed in 1981 by Barry Boehm, to give an estimate of number of man months it will take to develop a software product.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del also estimates the development schedule for the project in months and gives us a schedule distribution for all the major phases of a project.</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st Estimation Model continued</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irline Reservation System project has an average complexity and fair flexibility. Thus, this project is classified as an organic project under the COCOMO model.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equations as they are modified for the organic projects are as follow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ffort = 3.2 * EAF * (Size) ^ 1.05</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ime = 2.5 * (Effort) ^ 0.38 wher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ffort = number of staff months (P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AF = effort adjustment factor</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ze = number of lines of code for completed product. It is measures in KLOC (thousands of lines of cod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ime = total number of month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st Estimation Model Continued</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ffort = 3.2 * 0.45 * 3.0 ^ 1.05 = 4.56 staff month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me = 2.5 * 4.56 ^ 0.38 = 4.44 months (development ti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ntt Chart</a:t>
            </a:r>
            <a:endParaRPr b="1" lang="en-US" sz="3600" spc="-1" strike="noStrike">
              <a:solidFill>
                <a:srgbClr val="006666"/>
              </a:solidFill>
              <a:latin typeface="Arial"/>
            </a:endParaRPr>
          </a:p>
        </p:txBody>
      </p:sp>
      <p:pic>
        <p:nvPicPr>
          <p:cNvPr id="121" name="Picture 4" descr="12"/>
          <p:cNvPicPr/>
          <p:nvPr/>
        </p:nvPicPr>
        <p:blipFill>
          <a:blip r:embed="rId1"/>
          <a:stretch/>
        </p:blipFill>
        <p:spPr>
          <a:xfrm>
            <a:off x="914400" y="2286000"/>
            <a:ext cx="822960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rchitecture Elaboration Plan</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sion of the Vision docu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sion of the Project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chitecture Desig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ing Prototyp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st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mal Technical Inspec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mal Requirements Specific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ase 2 Presenta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Plan (Phase 1)</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sion Document 1.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ject Plan 1.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ftware Quality Assurance Pl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sentation 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Plan (Phase 2)</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tion items identified during phase I</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sion Document 2.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ject Plan 2.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mal Requirement Specifica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chitecture Desig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st Pla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mal Technical Inspection – submitted by two individual MSE studen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ecutable Architecture Prototype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ase 2 Presenta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Plan (Phase 3)</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ction items identified during phase I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r Manu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ponent Desig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ource Cod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essment Evalua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ject Evalua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st Result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enc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mal Technical Inspections - submitted by two individual MSE student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nal MSE presentatio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estions ?</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enda</a:t>
            </a:r>
            <a:endParaRPr b="1" lang="en-US" sz="3600" spc="-1" strike="noStrike">
              <a:solidFill>
                <a:srgbClr val="006666"/>
              </a:solidFill>
              <a:latin typeface="Arial"/>
            </a:endParaRPr>
          </a:p>
        </p:txBody>
      </p:sp>
      <p:sp>
        <p:nvSpPr>
          <p:cNvPr id="9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ject Overview</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Case Diagra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ystem Functionalit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st Estimation Mode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antt Char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chitecture Elaboration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ject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stion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Overview</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objective of this project is to design and develop an Airline Reservation Sys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roject is mainly intended for the customers, who use the airline websites to make reservations on fligh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system will be implemented in C#.NET and SQL Server 2000 will act as the databa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ct Overview continued</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motivation for the project comes from my interest to learn new technologies, like C# and ASP.N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ing a web-based online application would give me more experience using these technolog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base design was also one of my major objective for choosing this projec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 Case Diagrams</a:t>
            </a:r>
            <a:endParaRPr b="1" lang="en-US" sz="3600" spc="-1" strike="noStrike">
              <a:solidFill>
                <a:srgbClr val="006666"/>
              </a:solidFill>
              <a:latin typeface="Arial"/>
            </a:endParaRPr>
          </a:p>
        </p:txBody>
      </p:sp>
      <p:sp>
        <p:nvSpPr>
          <p:cNvPr id="103"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stomer Use Case Diagram</a:t>
            </a:r>
            <a:endParaRPr b="0" lang="en-US" sz="2400" spc="-1" strike="noStrike">
              <a:solidFill>
                <a:srgbClr val="003366"/>
              </a:solidFill>
              <a:latin typeface="Arial"/>
            </a:endParaRPr>
          </a:p>
        </p:txBody>
      </p:sp>
      <p:pic>
        <p:nvPicPr>
          <p:cNvPr id="104" name="Picture 7" descr=""/>
          <p:cNvPicPr/>
          <p:nvPr/>
        </p:nvPicPr>
        <p:blipFill>
          <a:blip r:embed="rId1"/>
          <a:stretch/>
        </p:blipFill>
        <p:spPr>
          <a:xfrm>
            <a:off x="4114800" y="2286000"/>
            <a:ext cx="358128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 Case Diagrams continued</a:t>
            </a:r>
            <a:endParaRPr b="1" lang="en-US" sz="3600" spc="-1" strike="noStrike">
              <a:solidFill>
                <a:srgbClr val="006666"/>
              </a:solidFill>
              <a:latin typeface="Arial"/>
            </a:endParaRPr>
          </a:p>
        </p:txBody>
      </p:sp>
      <p:sp>
        <p:nvSpPr>
          <p:cNvPr id="106" name="PlaceHolder 1"/>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ministrator Use Case Diagram</a:t>
            </a:r>
            <a:endParaRPr b="0" lang="en-US" sz="2400" spc="-1" strike="noStrike">
              <a:solidFill>
                <a:srgbClr val="003366"/>
              </a:solidFill>
              <a:latin typeface="Arial"/>
            </a:endParaRPr>
          </a:p>
        </p:txBody>
      </p:sp>
      <p:pic>
        <p:nvPicPr>
          <p:cNvPr id="107" name="Picture 6" descr=""/>
          <p:cNvPicPr/>
          <p:nvPr/>
        </p:nvPicPr>
        <p:blipFill>
          <a:blip r:embed="rId1"/>
          <a:stretch/>
        </p:blipFill>
        <p:spPr>
          <a:xfrm>
            <a:off x="457200" y="20574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ystem Functionalit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unctionality for the project is divided among the users and administrators of the Airline Reservation System.</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r Functional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ministrator Functionalit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r Functionality</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w Registr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it personal detail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gin/Logou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ok flight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ok motels, packages along with the airline ticket reservation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act the airline compan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ew the booking instructions online</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ministrator Functionality</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gin/Logou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Delete/Modify customer inform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Delete/Modify flight inform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Delete/Modify package or motel inform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cellation of Reservation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Confirm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dify details of web-page</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2:52:05Z</dcterms:created>
  <dc:creator>Srikaavya</dc:creator>
  <dc:description/>
  <dc:language>en-US</dc:language>
  <cp:lastModifiedBy>Brigade</cp:lastModifiedBy>
  <dcterms:modified xsi:type="dcterms:W3CDTF">2011-09-05T06:01:07Z</dcterms:modified>
  <cp:revision>6</cp:revision>
  <dc:subject/>
  <dc:title>Airline Reservation System</dc:title>
</cp:coreProperties>
</file>